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EE1AE-8CB9-40CE-965B-4ED55882E0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9937-3804-4914-943D-DC02DBA230E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600120" y="4346640"/>
            <a:ext cx="561168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Img"/>
          </p:nvPr>
        </p:nvSpPr>
        <p:spPr>
          <a:xfrm>
            <a:off x="803160" y="209520"/>
            <a:ext cx="5200920" cy="3900600"/>
          </a:xfrm>
          <a:prstGeom prst="rect">
            <a:avLst/>
          </a:prstGeom>
          <a:ln w="0">
            <a:noFill/>
          </a:ln>
        </p:spPr>
      </p:sp>
      <p:sp>
        <p:nvSpPr>
          <p:cNvPr id="77" name=""/>
          <p:cNvSpPr/>
          <p:nvPr/>
        </p:nvSpPr>
        <p:spPr>
          <a:xfrm>
            <a:off x="600120" y="4590360"/>
            <a:ext cx="5556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76440" y="6567480"/>
            <a:ext cx="677520" cy="68256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9160" y="7056360"/>
            <a:ext cx="679320" cy="68112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62280" y="6567480"/>
            <a:ext cx="679320" cy="68256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17600" y="7056360"/>
            <a:ext cx="676440" cy="68112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06800" y="6567480"/>
            <a:ext cx="681120" cy="68256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41600" y="7056360"/>
            <a:ext cx="679680" cy="68112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3160" y="6567480"/>
            <a:ext cx="676440" cy="68256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95880" y="6567480"/>
            <a:ext cx="676080" cy="6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27440" y="7056360"/>
            <a:ext cx="67968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0632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68400" y="5682960"/>
            <a:ext cx="7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2640" y="5682960"/>
            <a:ext cx="75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14960" y="6291360"/>
            <a:ext cx="7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73800" y="5804640"/>
            <a:ext cx="7588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5408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16160" y="7802640"/>
            <a:ext cx="75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70400" y="7802640"/>
            <a:ext cx="760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59480" y="7802640"/>
            <a:ext cx="75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4E86-6F77-4F96-9831-0DFAC3E6A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E8D-412D-414C-AB22-5E2F6E49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66F-31B0-4FE0-9D75-ABB9AB8B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297A-A02C-46D7-B10B-184971DCE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11E2-0AEB-4FEC-B32F-09B2A0393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5813-C154-4570-A73D-9BDB1EF2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7D8-EC2B-4727-9E5C-BD28A0628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8586-CB79-42E1-9433-913447BF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4642-351E-4900-BBD0-A01F3645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021B-1279-4EF7-8C6B-2E470EDE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3079-1863-49E2-8BE6-C6A14C8A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6E23-83DD-4F31-ACDF-C3A28B91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71400" y="6471720"/>
            <a:ext cx="17258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01F32-4FC5-4B31-8333-990FAF0C93BB}" type="slidenum">
              <a:rPr b="0" lang="ar-SA" sz="10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236000" y="230040"/>
            <a:ext cx="1657080" cy="52704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835200" cy="10526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awaly.com.sa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71640" y="2266920"/>
            <a:ext cx="3745080" cy="32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800" spc="-1" strike="noStrike" u="sng">
                <a:solidFill>
                  <a:srgbClr val="0c2d83"/>
                </a:solidFill>
                <a:uFillTx/>
                <a:latin typeface="Times New Roman"/>
              </a:rPr>
              <a:t>جوال الأطفا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200" spc="-1" strike="noStrike">
                <a:solidFill>
                  <a:srgbClr val="0c2d83"/>
                </a:solidFill>
                <a:latin typeface="Times New Roman"/>
              </a:rPr>
              <a:t>September </a:t>
            </a:r>
            <a:r>
              <a:rPr b="0" lang="ar-SA" sz="1200" spc="-1" strike="noStrike">
                <a:solidFill>
                  <a:srgbClr val="0c2d83"/>
                </a:solidFill>
                <a:latin typeface="Times New Roman"/>
              </a:rPr>
              <a:t>  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ar-SA" sz="2000" spc="-1" strike="noStrike">
                <a:solidFill>
                  <a:srgbClr val="0c2d83"/>
                </a:solidFill>
                <a:latin typeface="Times New Roman"/>
              </a:rPr>
              <a:t>الإدارة العامة للتسويق - الجوا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6520" y="6463080"/>
            <a:ext cx="1008000" cy="2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Arial"/>
              </a:rPr>
              <a:t>Confident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19080" y="0"/>
            <a:ext cx="9158400" cy="1828800"/>
          </a:xfrm>
          <a:custGeom>
            <a:avLst/>
            <a:gdLst/>
            <a:ahLst/>
            <a:rect l="l" t="t" r="r" b="b"/>
            <a:pathLst>
              <a:path w="6252" h="1152">
                <a:moveTo>
                  <a:pt x="0" y="1152"/>
                </a:moveTo>
                <a:lnTo>
                  <a:pt x="12" y="0"/>
                </a:lnTo>
                <a:lnTo>
                  <a:pt x="6252" y="0"/>
                </a:lnTo>
                <a:cubicBezTo>
                  <a:pt x="6252" y="0"/>
                  <a:pt x="6252" y="282"/>
                  <a:pt x="6252" y="564"/>
                </a:cubicBezTo>
                <a:cubicBezTo>
                  <a:pt x="2280" y="540"/>
                  <a:pt x="0" y="1152"/>
                  <a:pt x="0" y="1152"/>
                </a:cubicBezTo>
                <a:close/>
              </a:path>
            </a:pathLst>
          </a:custGeom>
          <a:solidFill>
            <a:srgbClr val="0c2d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4920" cy="1859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112160" y="209520"/>
            <a:ext cx="1550880" cy="5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c2d83"/>
                </a:solidFill>
                <a:latin typeface="Times New Roman"/>
              </a:rPr>
              <a:t>لماذا جوال الأطفا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67280" indent="-413280" algn="just" rtl="1">
              <a:lnSpc>
                <a:spcPct val="80000"/>
              </a:lnSpc>
              <a:spcBef>
                <a:spcPts val="15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لشريحة المستهدفة كبيرة جداً و لم يتم خدمتها و تلبية إحتياجاتها بخدمات إتصالات بشكل مباشر من قبل.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”المجتمع السعودي صغير الأعمار نسبياً حيث حيث تفيد الاحصاءات أن أعمار ما ي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38.3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السكان أقل م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4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ة، و نسبة من أعمارهم بين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و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0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 سنوات تقارب 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0" lang="ar-SA" sz="2000" spc="-1" strike="noStrike">
                <a:solidFill>
                  <a:srgbClr val="000066"/>
                </a:solidFill>
                <a:latin typeface="Times New Roman"/>
              </a:rPr>
              <a:t>% من تعداد السكان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استقطاب عملاء جدد و زيادة حصة السوق و الدخ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401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66"/>
                </a:solidFill>
                <a:latin typeface="Times New Roman"/>
              </a:rPr>
              <a:t>زيادة إرتباط كافة أفراد العائلة معنوياً و مادياً بالجوال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7280" indent="-413280" algn="just" rtl="1">
              <a:lnSpc>
                <a:spcPct val="80000"/>
              </a:lnSpc>
              <a:spcBef>
                <a:spcPts val="210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ترسيخ صورة الجوال في ذهن العميل كمقدم خدمة ملتزم بخدمة كافة شرائح المجتمع و قادر على التحرك بمرونة و فاعلية لطرح خدمات و أفكار جديدة و خلاق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c2d83"/>
                </a:solidFill>
                <a:latin typeface="Times New Roman"/>
              </a:rPr>
              <a:t>الرسالة و الشريحة المستهدفة</a:t>
            </a:r>
            <a:r>
              <a:rPr b="0" lang="en-US" sz="3200" spc="-1" strike="noStrike">
                <a:solidFill>
                  <a:srgbClr val="0c2d83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4358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رسال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901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rtl="1">
              <a:spcBef>
                <a:spcPts val="774"/>
              </a:spcBef>
              <a:buNone/>
              <a:tabLst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4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00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 u="sng">
                <a:solidFill>
                  <a:srgbClr val="003399"/>
                </a:solidFill>
                <a:uFillTx/>
                <a:latin typeface="Times New Roman"/>
              </a:rPr>
              <a:t>الشريحة المستهد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2000" indent="0" algn="ctr" rtl="1">
              <a:spcBef>
                <a:spcPts val="774"/>
              </a:spcBef>
              <a:buNone/>
              <a:tabLst>
                <a:tab algn="l" pos="0"/>
                <a:tab algn="l" pos="682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ِِِالعوائل السعودية و المقيمة ذات الدخل العالي و المتوسط  و التي لديها طفل أو أكثر ضمن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6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– 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10</a:t>
            </a:r>
            <a:r>
              <a:rPr b="0" lang="ar-SA" sz="3100" spc="-1" strike="noStrike">
                <a:solidFill>
                  <a:srgbClr val="333399"/>
                </a:solidFill>
                <a:latin typeface="Times New Roman"/>
              </a:rPr>
              <a:t> سنوات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4360" y="2060640"/>
          <a:ext cx="7638840" cy="1955880"/>
        </p:xfrm>
        <a:graphic>
          <a:graphicData uri="http://schemas.openxmlformats.org/drawingml/2006/table">
            <a:tbl>
              <a:tblPr/>
              <a:tblGrid>
                <a:gridCol w="6408720"/>
                <a:gridCol w="1230120"/>
              </a:tblGrid>
              <a:tr h="99180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”</a:t>
                      </a:r>
                      <a:r>
                        <a:rPr b="1" i="1" lang="ar-SA" sz="26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راحة البال“</a:t>
                      </a:r>
                      <a:r>
                        <a:rPr b="0" i="1" lang="ar-SA" sz="24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 عن طريق وسيلة اتصال مستمرة و امنة مع الابناء في أي وقت ومكا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الأه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83240"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2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جوال لنا كلنا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18288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الأطفا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539640" y="980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960" indent="0" algn="ctr" rtl="1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000066"/>
                </a:solidFill>
                <a:uFillTx/>
                <a:latin typeface="Times New Roman"/>
              </a:rPr>
              <a:t>تتمحور مواصفات الخدمة حول توفير ”راحة البال“ للوالدين عن طريق وسيلة تواصل و متابعة دائمة للطفل مع إعطائه بعض الحر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just" rtl="1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جوال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"جوالي" هي خدمة جوال مفوتر صممت كي تمنح الأهل راحة البال من خلال جهاز خاص للأطفال، يمكّن الأهل و أبنائهم من التواصل معاً بسهولة و أمان. حيث يمكن للأطفال الاتصال فقط بأرقام محددة مسبقاً من قبل الأهل كما يمكن للأهل تتبع مكان الأطفال و تحديد مناطق آمن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3960" algn="r" rtl="1">
              <a:spcBef>
                <a:spcPts val="4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000" spc="-1" strike="noStrike">
                <a:solidFill>
                  <a:srgbClr val="000066"/>
                </a:solidFill>
                <a:latin typeface="Times New Roman"/>
              </a:rPr>
              <a:t>الاشترا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عند الاشتراك بخدمة جوالي ستحصل على رقم جديد و مفوتر مع شريحة خاصة ب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 شراء جهاز "جوالي" الخاص من مراكز بيع الجوال أو أحد موزعي الخدمة المعتمدين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لتفعيل الخدمة أدخل شريحة "جوالي" في جهاز "جوالي" الخاص ثم أرسل رسالة قصيرة فارغة إلى 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6555</a:t>
            </a: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 من جوال الأب أو قم بزيارة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jawaly.com.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96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2000" spc="-1" strike="noStrike">
                <a:solidFill>
                  <a:srgbClr val="000066"/>
                </a:solidFill>
                <a:latin typeface="Times New Roman"/>
              </a:rPr>
              <a:t>يمكنك الدخول إلى موقع "جوالي" و التحكم بالإعدادات من خلال اسم المستخدم و كلمة السر التي ستحصل عليها عند شرائك الجهاز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552680"/>
            <a:ext cx="8280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لاتصال ال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جهاز "جوالي" الاتصال بخمسة أرقام بسهولة عن طريق الضغط مباشرة على أزرار الجهاز، كما يمكنه الاتصال بـ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رقماً آخر عن طريق استخدام دليل الأرقام في الجهاز عند الحاج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جميع هذه الأرقام يمكن برمجتها و التحكم بها فقط عن طريق الأهل و ذلك من خلال موقع "جوالي" على الانترنت أو عبر رسالة من جوال الأب (أو الأم)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655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استخدام سهل و آمن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استخدام "جوالي" بسهولة من قبل الأهل و الأطفال كما أن جهاز "جوالي" لا يستقبل أو يرسل الرسائل المتعددة الوسائط أو البلوتووث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2064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13372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إنذار ضعف البطارية</a:t>
            </a: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ea typeface="Simplified Arabi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تلقى الأب (أو الأم) رسالة إلى جواله الخاص تفيده بضرورة إعادة شحن بطارية "جوالي" عند الحاج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رد تلقائي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في حال لم يرد الطفل على اتصال الأهل خلال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1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ثانية يقوم "جوالي" بالرد تلقائياً كي يتمكن الأهل من سماع ما يدور حول الطفل و الاطمئنان علي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39640" y="1557360"/>
            <a:ext cx="806472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حديد موقع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حتوي "جوالي" على نظام تحديد المواقع العالمي 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GPS</a:t>
            </a:r>
            <a:r>
              <a:rPr b="0" lang="en-US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 ليتمكن الأهل من معرفة مكان تواجد أطفالهم (بناءً على آخر قراءة للجهاز خارج المباني) و بدقة تصل إلى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2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ا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تتبع مسار الطفل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معرفة مواقع أطفالهم خلال أوقات مختلفة من اليوم من خلال موقع جوالي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0c2d83"/>
                </a:solidFill>
                <a:uFillTx/>
                <a:latin typeface="Arial"/>
                <a:cs typeface="Simplified Arabic"/>
              </a:rPr>
              <a:t>منطقة الأمان*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c2d83"/>
                </a:solidFill>
                <a:latin typeface="Arial"/>
                <a:cs typeface="Simplified Arabic"/>
              </a:rPr>
              <a:t>يمكن للأهل تحديد مواقع آمنة (بين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00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متر و 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5</a:t>
            </a:r>
            <a:r>
              <a:rPr b="0" lang="ar-SA" sz="2000" spc="-1" strike="noStrike">
                <a:solidFill>
                  <a:srgbClr val="0c2d83"/>
                </a:solidFill>
                <a:latin typeface="Arial"/>
                <a:ea typeface="Simplified Arabic"/>
              </a:rPr>
              <a:t> كيلومتر) بحيث يتلقى الأب (أو الأم) رسالة إلى جواله في حال خروج أو دخول الطفل للمنطقة الآمنة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* لتحديد الموقع بدقة يجب أن يبقى جهاز "جوالي" خارج المبنى </a:t>
            </a:r>
            <a:r>
              <a:rPr b="0" lang="en-US" sz="1800" spc="-1" strike="noStrike">
                <a:solidFill>
                  <a:srgbClr val="0c2d83"/>
                </a:solidFill>
                <a:latin typeface="Arial"/>
                <a:ea typeface="Simplified Arab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</a:rPr>
              <a:t>مواصفات و مميزات الخدم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348000" y="620640"/>
            <a:ext cx="230364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66"/>
                </a:solidFill>
                <a:latin typeface="Times New Roman"/>
                <a:cs typeface="Times New Roman"/>
              </a:rPr>
              <a:t>الرسو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763640" y="3141720"/>
          <a:ext cx="5715000" cy="73008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اشتراك الشهر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5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سعر الدقيقة للمكالمات المحلية داخل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و خارج الشبك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63640" y="2708280"/>
          <a:ext cx="5715000" cy="365040"/>
        </p:xfrm>
        <a:graphic>
          <a:graphicData uri="http://schemas.openxmlformats.org/drawingml/2006/table">
            <a:tbl>
              <a:tblPr/>
              <a:tblGrid>
                <a:gridCol w="1257480"/>
                <a:gridCol w="4457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ر.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رسوم التأسي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5T11:29:48Z</dcterms:created>
  <dc:creator>aakanhal</dc:creator>
  <dc:description/>
  <dc:language>en-US</dc:language>
  <cp:lastModifiedBy>STC</cp:lastModifiedBy>
  <dcterms:modified xsi:type="dcterms:W3CDTF">2007-09-18T09:56:06Z</dcterms:modified>
  <cp:revision>102</cp:revision>
  <dc:subject/>
  <dc:title>PowerPoint Presentation</dc:title>
</cp:coreProperties>
</file>