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A67D-1F9A-48A2-9A8B-6DED89F2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B0F-084A-4328-8D97-44595FFE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065A-E1FE-481C-9284-8A0EA60D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FDBC-DF0B-4C39-8242-B1A28FF3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4C6A-0E61-4781-A011-BBE0F829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A668-5D89-4BE1-B533-BC97A0E3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B4DB-7BFD-4EBF-8746-1B6BBD56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772-00C5-43E4-A84D-E2394CB8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A830-A674-4F04-B7AD-2F85C7A3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023D-2A12-4E1C-833E-E5880E72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F003-6B41-4D6E-9C1F-2B2DE16E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A962-3419-44AD-8DC8-3555DEBF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08A7-6234-428C-9A0C-B4E44950CC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0"/>
            <a:ext cx="7086600" cy="1828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dffdd">
                  <a:alpha val="56078"/>
                </a:srgbClr>
              </a:gs>
              <a:gs pos="50000">
                <a:srgbClr val="e1f2f3">
                  <a:alpha val="43137"/>
                </a:srgbClr>
              </a:gs>
              <a:gs pos="100000">
                <a:srgbClr val="ddffdd">
                  <a:alpha val="56078"/>
                </a:srgbClr>
              </a:gs>
            </a:gsLst>
            <a:lin ang="13500000"/>
          </a:gradFill>
          <a:ln w="38160">
            <a:solidFill>
              <a:srgbClr val="41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7600"/>
                </a:solidFill>
                <a:latin typeface="Arial"/>
                <a:cs typeface="Andalus"/>
              </a:rPr>
              <a:t>قراءة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إعد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عبد اللطيف بن محمد باشي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توفيق بن عبد المحسن الخي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محمود بن عمر باع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قسم المحاسبة – جامعة الملك عبد العزي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752480"/>
            <a:ext cx="76201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ايرادات ( المبيع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رو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خصص الزك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رب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 الرئيسي من قائمة التدفقات النقدية هو إمداد المستفيدين بمعلومات عن الوضع النقدي ل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بالتفصيل حجم التدفق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داخلة الى ا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خارجة ع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منتجة من الانشطة التشغيلية ل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905120"/>
            <a:ext cx="76201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شغ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استثم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مو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دوات الاساسية لتحليل (قراءة)  القوائم الما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5120" y="1599840"/>
            <a:ext cx="6870600" cy="4191120"/>
            <a:chOff x="1905120" y="1599840"/>
            <a:chExt cx="6870600" cy="4191120"/>
          </a:xfrm>
        </p:grpSpPr>
        <p:cxnSp>
          <p:nvCxnSpPr>
            <p:cNvPr id="89" name="_s71688"/>
            <p:cNvCxnSpPr>
              <a:stCxn id="90" idx="3"/>
              <a:endCxn id="91" idx="2"/>
            </p:cNvCxnSpPr>
            <p:nvPr/>
          </p:nvCxnSpPr>
          <p:spPr>
            <a:xfrm flipV="1">
              <a:off x="4976640" y="3009240"/>
              <a:ext cx="1773720" cy="250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71689"/>
            <p:cNvCxnSpPr>
              <a:stCxn id="93" idx="3"/>
              <a:endCxn id="91" idx="2"/>
            </p:cNvCxnSpPr>
            <p:nvPr/>
          </p:nvCxnSpPr>
          <p:spPr>
            <a:xfrm flipV="1">
              <a:off x="4976640" y="3009240"/>
              <a:ext cx="1773720" cy="1688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71690"/>
            <p:cNvCxnSpPr>
              <a:stCxn id="95" idx="3"/>
              <a:endCxn id="91" idx="2"/>
            </p:cNvCxnSpPr>
            <p:nvPr/>
          </p:nvCxnSpPr>
          <p:spPr>
            <a:xfrm flipV="1">
              <a:off x="4976640" y="3008880"/>
              <a:ext cx="1773720" cy="84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71691"/>
            <p:cNvSpPr/>
            <p:nvPr/>
          </p:nvSpPr>
          <p:spPr>
            <a:xfrm>
              <a:off x="4724640" y="1599840"/>
              <a:ext cx="4051080" cy="13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أساليب التحليل المال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71692"/>
            <p:cNvSpPr/>
            <p:nvPr/>
          </p:nvSpPr>
          <p:spPr>
            <a:xfrm>
              <a:off x="1905120" y="35812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أفق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71693"/>
            <p:cNvSpPr/>
            <p:nvPr/>
          </p:nvSpPr>
          <p:spPr>
            <a:xfrm>
              <a:off x="1905120" y="4419360"/>
              <a:ext cx="3071880" cy="555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رأس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71694"/>
            <p:cNvSpPr/>
            <p:nvPr/>
          </p:nvSpPr>
          <p:spPr>
            <a:xfrm>
              <a:off x="1905120" y="52354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باستخدام النسب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رأسي ( الطول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حليل أي قائمة من القوائم المالية في مدة وا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م ذلك عن طريق مقارنة البنود التفصيلية بإجمالي البنود حتى يمكن معرفة قيمة كل بند من البنود بالنسبة لإجمالي البن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3505320"/>
          <a:ext cx="8077320" cy="2819160"/>
        </p:xfrm>
        <a:graphic>
          <a:graphicData uri="http://schemas.openxmlformats.org/drawingml/2006/table">
            <a:tbl>
              <a:tblPr/>
              <a:tblGrid>
                <a:gridCol w="1752840"/>
                <a:gridCol w="2057400"/>
                <a:gridCol w="426708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النسب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70.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صافي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8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374.39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كلفة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6.0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ل الرب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مقارنة الأرقام الفعلية للقوائم المالية على مدار عدد من الس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: معرفة التغيرات في كل بند من البنود سواء كان بالزيادة أو بالنقصان مما يساعد على دراسة اتجاهات التغير في البنود وبيان ذلك الأثر على نشاط المشر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ثال في 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2362320"/>
                <a:gridCol w="3200400"/>
                <a:gridCol w="2666880"/>
              </a:tblGrid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4.6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0.47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46.7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74.39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.85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.08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ل الربح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صروفات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.5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6.83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بيع وتسوي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.86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.80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عمومية وإدار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.43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9.63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وع المصروف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42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.45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خل من العملي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نسب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ستخدم النسب المالية لقياس الحجم النسبي لأي عدد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هم النسب الم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الأص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ربح ال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يفية الوصول الى ربحية السهم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ن اشهر طريقة لتقييم أي شركة من الشركات هي معرفة ارباح هذه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769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يث أن الربحية تعد من المؤشرات الدالة على مدى قوة وكفاءة الشركة في استغلال الموارد المتاحة ل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3613320"/>
          <a:ext cx="8381880" cy="1155600"/>
        </p:xfrm>
        <a:graphic>
          <a:graphicData uri="http://schemas.openxmlformats.org/drawingml/2006/table">
            <a:tbl>
              <a:tblPr/>
              <a:tblGrid>
                <a:gridCol w="5743440"/>
                <a:gridCol w="2638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صافي ربح الشرك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ربح السهم</a:t>
                      </a:r>
                      <a:r>
                        <a:rPr b="0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abic Transparent"/>
                        </a:rPr>
                        <a:t>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عدد السهم المصدر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10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ثير ما يتداول مصطلح مكرر الارباح للسهم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هو ربط سعر السهم السوقي الى ربحية السهم وذلك للوصول الى عدد السنوات اللازمة لاسترداد القيمة السوقية للسه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429000"/>
            <a:ext cx="8381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نخفاض مكرر الارباح يدل على انخفاض عدد السنوات اللازمة لاسترداد القيمة السوقية للسهم والعكس صحي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تدني مؤشر جيد للشراء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رتفع فرصة للبي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قارير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ي المنتج النهائي الذي يصدر في نهاية السنة أو الفترة المالية للنظام المحاسبي، ويشتمل على معلومات مالية وغير مالية التي تعتبر إحدى وسائل توصيل المعلومات للأطراف ذات العلا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ادلة مكرر الاربا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657600"/>
            <a:ext cx="7391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ثال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ية ا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.2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يمة السوقية ل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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9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905120"/>
          <a:ext cx="8229600" cy="1155600"/>
        </p:xfrm>
        <a:graphic>
          <a:graphicData uri="http://schemas.openxmlformats.org/drawingml/2006/table">
            <a:tbl>
              <a:tblPr/>
              <a:tblGrid>
                <a:gridCol w="5638680"/>
                <a:gridCol w="2590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السعر السوقي</a:t>
                      </a: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للسه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مكرر الأرباح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نصيب السهم من الأرباح المحقق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10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ؤشرات لزيادة رأس المال عن طريق منح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معرفة ما تنويه الشركة لزيادة رأس المال عن طريق منحة يجب التحقق من قيمة الارباح المبقاة والاحتياطيات فهما البندان الاساسيان لمعرفة مقدرة الشركة لزيادة رأس المال عن طريق منح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4572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جزء من 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494000"/>
          <a:ext cx="7848360" cy="4763880"/>
        </p:xfrm>
        <a:graphic>
          <a:graphicData uri="http://schemas.openxmlformats.org/drawingml/2006/table">
            <a:tbl>
              <a:tblPr/>
              <a:tblGrid>
                <a:gridCol w="216000"/>
                <a:gridCol w="1681920"/>
                <a:gridCol w="216000"/>
                <a:gridCol w="1505880"/>
                <a:gridCol w="422856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25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لاوة إصدا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94.63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14.84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نظامي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5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ا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.65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غير محققة عن استثمارات متاحة للبي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8.919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6.45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سويات تحويل عملات اجنب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96.13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.114.50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.448.26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وع 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سهم لكل ثلاثة أ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1600200"/>
          <a:ext cx="8153280" cy="1339920"/>
        </p:xfrm>
        <a:graphic>
          <a:graphicData uri="http://schemas.openxmlformats.org/drawingml/2006/table">
            <a:tbl>
              <a:tblPr/>
              <a:tblGrid>
                <a:gridCol w="484200"/>
                <a:gridCol w="1842840"/>
                <a:gridCol w="5826240"/>
              </a:tblGrid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762120" y="3746520"/>
            <a:ext cx="7772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ضح أن الشركة لديها الإمكانية أن تمنح سهم مجاني لكل ثلاثة أسهم فيصبح رأس المال أربعة مليار ري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قيس معدل العائد على حقوق المساهمين نسبة ربح الشركة الى حجم حقوق المساهمين فيها.ويحتسب بقسمة صافي دخل الشركة على إجمالي حقوق المساهمي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3200400"/>
          <a:ext cx="8229600" cy="1295280"/>
        </p:xfrm>
        <a:graphic>
          <a:graphicData uri="http://schemas.openxmlformats.org/drawingml/2006/table">
            <a:tbl>
              <a:tblPr/>
              <a:tblGrid>
                <a:gridCol w="3352680"/>
                <a:gridCol w="48769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حقوق المساهمين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57200" y="5181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حقوق المساهمين يدل على قوة أداء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100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الاص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مكن لمعدل العائد على الاصول أن يقدم للمستثمر فكرة حول أداء إدارة واستثمار الشركة لأصولها أو موجوداتها. ويمكن احتساب معدل العائد على الاصول كما في المعادل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3581280"/>
          <a:ext cx="8153280" cy="1219320"/>
        </p:xfrm>
        <a:graphic>
          <a:graphicData uri="http://schemas.openxmlformats.org/drawingml/2006/table">
            <a:tbl>
              <a:tblPr/>
              <a:tblGrid>
                <a:gridCol w="4114800"/>
                <a:gridCol w="403848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الاصول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توسط إجمالي الاصو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28600" y="52578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الاصول يدل على كفاءة إدارة واستثمار الشركة لأصول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10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114800" y="762120"/>
            <a:ext cx="411480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0" y="2160"/>
                </a:moveTo>
                <a:lnTo>
                  <a:pt x="-6833" y="2160"/>
                </a:lnTo>
                <a:lnTo>
                  <a:pt x="-6833" y="32580"/>
                </a:lnTo>
                <a:lnTo>
                  <a:pt x="2908" y="59040"/>
                </a:lnTo>
              </a:path>
            </a:pathLst>
          </a:cu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800000"/>
                </a:solidFill>
                <a:latin typeface="Arial"/>
                <a:cs typeface="Arabic Transparent"/>
              </a:rPr>
              <a:t>نصيحة عا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809880"/>
            <a:ext cx="8229600" cy="2514600"/>
          </a:xfrm>
          <a:prstGeom prst="flowChartPunchedTape">
            <a:avLst/>
          </a:prstGeom>
          <a:noFill/>
          <a:ln w="936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105262"/>
                </a:solidFill>
                <a:latin typeface="Arial"/>
              </a:rPr>
              <a:t>أعطي الخبز خبازه حتى لو أخذ نصف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057400" y="228600"/>
            <a:ext cx="51055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8703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3668" dir="5318826" blurRad="0" rotWithShape="0">
                    <a:srgbClr val="dddddd">
                      <a:alpha val="50000"/>
                    </a:srgbClr>
                  </a:outerShdw>
                </a:effectLst>
                <a:latin typeface="Arabic Transparent"/>
              </a:rPr>
              <a:t>وأخيرا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3668" dir="5318826" blurRad="0" rotWithShape="0">
                  <a:srgbClr val="dddddd">
                    <a:alpha val="5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362320"/>
            <a:ext cx="8686800" cy="3047760"/>
          </a:xfrm>
          <a:prstGeom prst="flowChartOnlineStorag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نشكر لكم حسن استماعكم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ونتمنى لكم التوفيق في رحلة مع الاسه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جزاء التقارير الم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5800" y="2057400"/>
            <a:ext cx="7772400" cy="2300400"/>
            <a:chOff x="685800" y="2057400"/>
            <a:chExt cx="7772400" cy="2300400"/>
          </a:xfrm>
        </p:grpSpPr>
        <p:cxnSp>
          <p:nvCxnSpPr>
            <p:cNvPr id="48" name="_s31750"/>
            <p:cNvCxnSpPr>
              <a:stCxn id="49" idx="0"/>
              <a:endCxn id="50" idx="2"/>
            </p:cNvCxnSpPr>
            <p:nvPr/>
          </p:nvCxnSpPr>
          <p:spPr>
            <a:xfrm flipV="1" rot="16200000">
              <a:off x="5600520" y="2056680"/>
              <a:ext cx="876960" cy="2782080"/>
            </a:xfrm>
            <a:prstGeom prst="bentConnector3">
              <a:avLst>
                <a:gd name="adj1" fmla="val 13018"/>
              </a:avLst>
            </a:prstGeom>
            <a:ln w="28440">
              <a:solidFill>
                <a:srgbClr val="41989f"/>
              </a:solidFill>
              <a:miter/>
            </a:ln>
          </p:spPr>
        </p:cxnSp>
        <p:cxnSp>
          <p:nvCxnSpPr>
            <p:cNvPr id="51" name="_s31751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4188240" y="3431160"/>
              <a:ext cx="882000" cy="3888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1752"/>
            <p:cNvCxnSpPr>
              <a:stCxn id="54" idx="0"/>
              <a:endCxn id="50" idx="2"/>
            </p:cNvCxnSpPr>
            <p:nvPr/>
          </p:nvCxnSpPr>
          <p:spPr>
            <a:xfrm flipH="1" flipV="1" rot="5400000">
              <a:off x="2730960" y="1973880"/>
              <a:ext cx="882000" cy="295344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41989f"/>
              </a:solidFill>
              <a:miter/>
            </a:ln>
          </p:spPr>
        </p:cxnSp>
        <p:sp>
          <p:nvSpPr>
            <p:cNvPr id="50" name="_s31753"/>
            <p:cNvSpPr/>
            <p:nvPr/>
          </p:nvSpPr>
          <p:spPr>
            <a:xfrm>
              <a:off x="3124440" y="2057400"/>
              <a:ext cx="3047760" cy="914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قارير المال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754"/>
            <p:cNvSpPr/>
            <p:nvPr/>
          </p:nvSpPr>
          <p:spPr>
            <a:xfrm>
              <a:off x="685800" y="3900600"/>
              <a:ext cx="20192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المراج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1755"/>
            <p:cNvSpPr/>
            <p:nvPr/>
          </p:nvSpPr>
          <p:spPr>
            <a:xfrm>
              <a:off x="3543480" y="3900600"/>
              <a:ext cx="213336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مجلس الإدار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1756"/>
            <p:cNvSpPr/>
            <p:nvPr/>
          </p:nvSpPr>
          <p:spPr>
            <a:xfrm>
              <a:off x="6400800" y="3886200"/>
              <a:ext cx="205740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قوائم 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800000"/>
                </a:solidFill>
                <a:latin typeface="Arial"/>
                <a:cs typeface="Arabic Transparent"/>
              </a:rPr>
              <a:t>لغز صعب تفسير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905120"/>
            <a:ext cx="815328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بدو القوائم المالية لغير المتخصصين من الوهلة الأولى أنها لغز كبير وذلك لأنها تحتوي على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كثير من الأرق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ليل من الألفا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04920"/>
            <a:ext cx="5333760" cy="1066680"/>
          </a:xfrm>
          <a:prstGeom prst="wedgeEllipseCallout">
            <a:avLst>
              <a:gd name="adj1" fmla="val 53837"/>
              <a:gd name="adj2" fmla="val 97620"/>
            </a:avLst>
          </a:prstGeom>
          <a:noFill/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610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5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عتبر القوائم المالية أهم جزء من أجزاء التقارير المالية وتمثل المصدر الرئيسي للمعلومات التاريخية عن نتيجة نشاط المشروع خلال الفترة المالية الساب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76720"/>
            <a:ext cx="8763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1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صدر الشركات المساهمة قوائم مالية غير مدققة كل ثلاثة أشهر وتسم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4921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00"/>
                </a:solidFill>
                <a:latin typeface="Arial"/>
                <a:cs typeface="Arabic Transparent"/>
              </a:rPr>
              <a:t>بالتقارير ربع السنو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400"/>
                            </p:stCondLst>
                            <p:childTnLst>
                              <p:par>
                                <p:cTn id="140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ونات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38280" y="1371600"/>
            <a:ext cx="6195960" cy="5104800"/>
            <a:chOff x="2438280" y="1371600"/>
            <a:chExt cx="6195960" cy="5104800"/>
          </a:xfrm>
        </p:grpSpPr>
        <p:cxnSp>
          <p:nvCxnSpPr>
            <p:cNvPr id="64" name="_s33823"/>
            <p:cNvCxnSpPr>
              <a:stCxn id="65" idx="3"/>
              <a:endCxn id="66" idx="2"/>
            </p:cNvCxnSpPr>
            <p:nvPr/>
          </p:nvCxnSpPr>
          <p:spPr>
            <a:xfrm flipV="1">
              <a:off x="5509800" y="2780640"/>
              <a:ext cx="1703880" cy="34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33821"/>
            <p:cNvCxnSpPr>
              <a:stCxn id="68" idx="3"/>
              <a:endCxn id="66" idx="2"/>
            </p:cNvCxnSpPr>
            <p:nvPr/>
          </p:nvCxnSpPr>
          <p:spPr>
            <a:xfrm flipV="1">
              <a:off x="5509800" y="2780280"/>
              <a:ext cx="1703880" cy="26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3818"/>
            <p:cNvCxnSpPr>
              <a:stCxn id="70" idx="3"/>
              <a:endCxn id="66" idx="2"/>
            </p:cNvCxnSpPr>
            <p:nvPr/>
          </p:nvCxnSpPr>
          <p:spPr>
            <a:xfrm flipV="1">
              <a:off x="5509800" y="2780640"/>
              <a:ext cx="1703880" cy="1894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3817"/>
            <p:cNvCxnSpPr>
              <a:stCxn id="72" idx="3"/>
              <a:endCxn id="66" idx="2"/>
            </p:cNvCxnSpPr>
            <p:nvPr/>
          </p:nvCxnSpPr>
          <p:spPr>
            <a:xfrm flipV="1">
              <a:off x="5509800" y="2780280"/>
              <a:ext cx="1703880" cy="120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33816"/>
            <p:cNvCxnSpPr>
              <a:stCxn id="74" idx="3"/>
              <a:endCxn id="66" idx="2"/>
            </p:cNvCxnSpPr>
            <p:nvPr/>
          </p:nvCxnSpPr>
          <p:spPr>
            <a:xfrm flipV="1">
              <a:off x="5509800" y="2780280"/>
              <a:ext cx="1703880" cy="44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" name="_s33812"/>
            <p:cNvSpPr/>
            <p:nvPr/>
          </p:nvSpPr>
          <p:spPr>
            <a:xfrm>
              <a:off x="5790960" y="1371600"/>
              <a:ext cx="2843280" cy="1371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مكونات القوائم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3813"/>
            <p:cNvSpPr/>
            <p:nvPr/>
          </p:nvSpPr>
          <p:spPr>
            <a:xfrm>
              <a:off x="2438280" y="29494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مركز المال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3814"/>
            <p:cNvSpPr/>
            <p:nvPr/>
          </p:nvSpPr>
          <p:spPr>
            <a:xfrm>
              <a:off x="2438280" y="37112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دخ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3815"/>
            <p:cNvSpPr/>
            <p:nvPr/>
          </p:nvSpPr>
          <p:spPr>
            <a:xfrm>
              <a:off x="2438280" y="43970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تدفقات النقد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3820"/>
            <p:cNvSpPr/>
            <p:nvPr/>
          </p:nvSpPr>
          <p:spPr>
            <a:xfrm>
              <a:off x="2438280" y="515916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ارباح المبقا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3822"/>
            <p:cNvSpPr/>
            <p:nvPr/>
          </p:nvSpPr>
          <p:spPr>
            <a:xfrm>
              <a:off x="2438280" y="59212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ايضاح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هداف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نتيجة العمليات التي قام بها المشروع خلال فترة معينة ( قائمة الدخل 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بيان ما لشركة من أصول وما عليها من التزامات في لحظة معينة ( قائمة المركز المالي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فير البيانات والمعلومات المحاسبية للمستفيدين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640"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قائمة المركز المالي ما للشركة من الأصول وما عليها من الالتزامات في لحظة معين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صول حيث تشير الى موجودات ( ممتلكات )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خصوم وحقوق المساهمين تشير الى ما على الشركة من الالتزامات سواء للملاك أو للدائ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بيان مالي لنتائج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تعبر عن مدى نجاح الشركة في توظيف الاصو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08:29:59Z</dcterms:created>
  <dc:creator>office</dc:creator>
  <dc:description/>
  <dc:language>en-US</dc:language>
  <cp:lastModifiedBy>Muhammad AlBaghdadi</cp:lastModifiedBy>
  <dcterms:modified xsi:type="dcterms:W3CDTF">2006-12-02T22:48:19Z</dcterms:modified>
  <cp:revision>73</cp:revision>
  <dc:subject/>
  <dc:title>التقارير المالية</dc:title>
</cp:coreProperties>
</file>