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E61-F5A1-4529-8118-A9983DD4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61D-A008-44B9-9A55-FF9FC564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6596-5155-402F-A516-F93FA2BB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211-1701-40CB-9B5B-D4110E57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131B-EA59-428E-82C3-43C36D31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1452-CDA8-4C90-A30B-93FB38FE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4481-90AF-4067-923D-4AD46177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028D-112F-460E-B713-316605AF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8E7E-2AD2-48F5-ACD1-DA1C7BAC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36C8-E67F-4928-85EB-09CEFDF6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9A3F-26B0-4818-BA7B-8F2354F4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CD5-C9A7-4ED0-BABB-55F38F95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C6F1-420C-4E3F-BAAE-28302528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D9C9-F47D-4F56-8707-CB15BFE5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596C-5E2C-4FC6-BB4F-98311326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9029-2436-4011-919B-C8B6713D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2B49-5BBF-441B-8AA9-8482E047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3D843-D484-4AED-A077-9DD91359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53981-AEAE-46FB-9A8A-B4DE161A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4261C-700B-477B-8B46-1CC3D5D2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9FA5D-3ABE-4F92-A140-65172133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A93FB-0AD5-41D9-9C17-2703C7E7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035-DA49-4B84-A0F7-71901FF7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6A1AC-ED20-4CC2-9E71-B9951D02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4AF87-A2AC-4FEB-8AFA-6C9FAADC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CD609-8C0D-4FFF-9E89-B44DCD52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DD0A0-05CB-4474-99E6-C2FC9BF8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9FA097-BF7C-4AA5-A5ED-66E2AB2C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2F9C7-5E3F-43CA-9613-129D9BC9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F30D23-36D1-45C6-A864-C341B896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8DC6-F35B-475B-8E89-BA72E937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456-6869-4785-A968-57B8C921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65AE-95D4-4A34-AD27-1C249604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A462-4A7A-4309-B852-42F65D38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1D36-F397-464F-81F6-4B54D4CD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1D02-FD6A-4D53-B7DE-9A6782A4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2F81-4892-4076-84B4-2FC67192B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A65B-A9FE-4D02-9FCD-C89B4BEA36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62CF-3646-4733-9C12-7DBDB924D9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773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ضرب كثيرات الحدود – ثاني متوسط – ف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600" y="917640"/>
            <a:ext cx="874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100080"/>
            <a:ext cx="4103640" cy="792000"/>
          </a:xfrm>
          <a:custGeom>
            <a:avLst/>
            <a:gdLst>
              <a:gd name="textAreaLeft" fmla="*/ 93240 w 4103640"/>
              <a:gd name="textAreaRight" fmla="*/ 4010400 w 41036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18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8276" y="21600"/>
                </a:lnTo>
                <a:arcTo wR="3600" hR="3600" stAng="10800000" swAng="5400000"/>
                <a:lnTo>
                  <a:pt x="11187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1047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ضرب كثيرات ال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6400" y="84312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لاً : ضرب وحيدات ال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6680" y="1576440"/>
            <a:ext cx="8748720" cy="213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40" y="4361040"/>
            <a:ext cx="8748720" cy="249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5760" y="3692520"/>
            <a:ext cx="87692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24000" y="1700280"/>
            <a:ext cx="906480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د ضرب وحيدات الحد نضرب المعاملات م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الرموز معاً ولا ننسى أنه في حالة ضر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رموز المتشابهة نجمع الأس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36766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50760" y="361332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14800" y="4508640"/>
            <a:ext cx="37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س ×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1720" y="51688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-ذ ا@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× 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28880" y="45021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95360" y="45291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× س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7680" y="4570560"/>
            <a:ext cx="16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94036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48080" y="5940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280" y="5992920"/>
            <a:ext cx="24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6720" y="2533680"/>
            <a:ext cx="8496360" cy="221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1400"/>
            <a:ext cx="8496360" cy="245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22480" y="25527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20952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ب × -ا ب@ × ذا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3360" y="836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92440" y="86832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7360" y="890640"/>
            <a:ext cx="31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× ب@× ب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14954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8644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688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32130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$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82760" y="32544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×  ا × ا#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3800" y="3943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9880" y="393372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040" y="4743360"/>
            <a:ext cx="849636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869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ج × -ذا@ب@ × ذج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805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-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580536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72320" y="58388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9800" y="580536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3840" y="4724280"/>
            <a:ext cx="867564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200" y="2154240"/>
            <a:ext cx="8675640" cy="141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81612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1400"/>
            <a:ext cx="4680000" cy="765000"/>
          </a:xfrm>
          <a:custGeom>
            <a:avLst/>
            <a:gdLst>
              <a:gd name="textAreaLeft" fmla="*/ 90000 w 4680000"/>
              <a:gd name="textAreaRight" fmla="*/ 4590000 w 4680000"/>
              <a:gd name="textAreaTop" fmla="*/ 90000 h 765000"/>
              <a:gd name="textAreaBottom" fmla="*/ 675000 h 765000"/>
            </a:gdLst>
            <a:ahLst/>
            <a:rect l="textAreaLeft" t="textAreaTop" r="textAreaRight" b="textAreaBottom"/>
            <a:pathLst>
              <a:path w="1320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8489" y="21600"/>
                </a:lnTo>
                <a:arcTo wR="3600" hR="3600" stAng="10800000" swAng="5400000"/>
                <a:lnTo>
                  <a:pt x="13208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55d0e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76320" y="745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82960" y="8161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أكمل مباشرة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13372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الضرب في أبسط صو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6280" y="148428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78588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1200" y="143352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ذ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× - ذب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46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61920" y="7952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س#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54673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ب × ب@ × ب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3583080"/>
            <a:ext cx="1871640" cy="1141200"/>
          </a:xfrm>
          <a:prstGeom prst="downArrowCallout">
            <a:avLst>
              <a:gd name="adj1" fmla="val 41005"/>
              <a:gd name="adj2" fmla="val 41002"/>
              <a:gd name="adj3" fmla="val 16667"/>
              <a:gd name="adj4" fmla="val 6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583080"/>
            <a:ext cx="150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83000" y="544500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ا@ × ا}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5424480"/>
            <a:ext cx="344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{ 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×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98800" y="480708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86440" y="603396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43560" y="6137280"/>
            <a:ext cx="5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9800" y="6095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46240" y="281160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062000"/>
            <a:ext cx="9144000" cy="20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15920"/>
            <a:ext cx="6408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8160" y="1364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ضرب وحيدة حد في كثيرة 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14560"/>
            <a:ext cx="874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عند ضرب وحيدة حد في كثيرة حدود نستخ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خاصية توزيع الضرب على الجمع كما سي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440" y="314172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31608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50760" y="307656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3890880"/>
            <a:ext cx="56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32320" y="467352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661000"/>
            <a:ext cx="2087280" cy="1197000"/>
          </a:xfrm>
          <a:prstGeom prst="downArrowCallout">
            <a:avLst>
              <a:gd name="adj1" fmla="val 43598"/>
              <a:gd name="adj2" fmla="val 4359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0720" y="573408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55d0ed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2440" y="-2700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54936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404640"/>
            <a:ext cx="1008000" cy="28764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16480" y="404640"/>
            <a:ext cx="2232000" cy="29700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0"/>
            <a:ext cx="3457440" cy="692280"/>
          </a:xfrm>
          <a:custGeom>
            <a:avLst/>
            <a:gdLst/>
            <a:ahLst/>
            <a:rect l="l" t="t" r="r" b="b"/>
            <a:pathLst>
              <a:path w="2207" h="370">
                <a:moveTo>
                  <a:pt x="2207" y="345"/>
                </a:moveTo>
                <a:cubicBezTo>
                  <a:pt x="2122" y="294"/>
                  <a:pt x="1894" y="102"/>
                  <a:pt x="1698" y="51"/>
                </a:cubicBezTo>
                <a:cubicBezTo>
                  <a:pt x="1502" y="0"/>
                  <a:pt x="1238" y="24"/>
                  <a:pt x="1028" y="37"/>
                </a:cubicBezTo>
                <a:cubicBezTo>
                  <a:pt x="818" y="50"/>
                  <a:pt x="610" y="76"/>
                  <a:pt x="439" y="131"/>
                </a:cubicBezTo>
                <a:cubicBezTo>
                  <a:pt x="268" y="186"/>
                  <a:pt x="91" y="320"/>
                  <a:pt x="0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1197000"/>
            <a:ext cx="33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{ذ س@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}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43320" y="120636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ذ س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7080" y="1238400"/>
            <a:ext cx="263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18032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7440" y="180324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773360"/>
            <a:ext cx="172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7080" y="2492280"/>
            <a:ext cx="895500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290520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93080" y="2739960"/>
            <a:ext cx="792000" cy="21600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2678040"/>
            <a:ext cx="1872000" cy="36036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3640" y="3573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{ا@ × ا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32160" y="357192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{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9800" y="2519280"/>
            <a:ext cx="2808360" cy="478080"/>
          </a:xfrm>
          <a:custGeom>
            <a:avLst/>
            <a:gdLst/>
            <a:ahLst/>
            <a:rect l="l" t="t" r="r" b="b"/>
            <a:pathLst>
              <a:path w="1769" h="301">
                <a:moveTo>
                  <a:pt x="1769" y="301"/>
                </a:moveTo>
                <a:cubicBezTo>
                  <a:pt x="1722" y="259"/>
                  <a:pt x="1604" y="94"/>
                  <a:pt x="1485" y="47"/>
                </a:cubicBezTo>
                <a:cubicBezTo>
                  <a:pt x="1366" y="0"/>
                  <a:pt x="1201" y="16"/>
                  <a:pt x="1056" y="20"/>
                </a:cubicBezTo>
                <a:cubicBezTo>
                  <a:pt x="911" y="24"/>
                  <a:pt x="746" y="47"/>
                  <a:pt x="614" y="74"/>
                </a:cubicBezTo>
                <a:cubicBezTo>
                  <a:pt x="482" y="101"/>
                  <a:pt x="368" y="143"/>
                  <a:pt x="266" y="181"/>
                </a:cubicBezTo>
                <a:cubicBezTo>
                  <a:pt x="164" y="219"/>
                  <a:pt x="55" y="276"/>
                  <a:pt x="0" y="3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361332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{ 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96360" y="425124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68720" y="4221000"/>
            <a:ext cx="18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38520" y="425124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5157720"/>
            <a:ext cx="7777440" cy="1700280"/>
          </a:xfrm>
          <a:prstGeom prst="flowChartMultidocument">
            <a:avLst/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8000" y="53229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880" y="59277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إلى اللقاء محمد ا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39:12Z</dcterms:created>
  <dc:creator>user</dc:creator>
  <dc:description/>
  <dc:language>en-US</dc:language>
  <cp:lastModifiedBy>Windows XP</cp:lastModifiedBy>
  <dcterms:modified xsi:type="dcterms:W3CDTF">2007-06-16T21:52:51Z</dcterms:modified>
  <cp:revision>7</cp:revision>
  <dc:subject/>
  <dc:title>الشريحة 1</dc:title>
</cp:coreProperties>
</file>