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EC0-899D-4DD9-A324-614E9A99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778E-5F4F-46B1-92F9-F05B525C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6F8-6950-457C-A1CE-55FF70FF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2B5-402F-49DF-B8E7-30D22C41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EFA6-50E9-4EE0-89A2-550E6A9D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F904-04FE-42A2-A580-2CED44FF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AD50-AE8B-4F84-8EDD-6C3E34F7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FA8C-2453-4C7B-B2E8-B2451FA8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001F-FE7F-4D7A-8E30-CCE69A4E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CA4E-36F6-4286-847F-20488355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F9BD-01F9-483A-BC77-0699CFDD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7099-5D82-4D22-8675-DA2377CF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AC33-992D-4126-9180-463FB461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36A5-6907-4E61-AE11-A82408D7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3E8C-0A1A-4A00-8D43-18B61036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DE6A-9B68-4C84-A5CF-E3C686BD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1565-32F4-43E1-AFDF-248902DA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EFD63-2C00-42E1-9E71-C4057D0A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A033C-4602-410C-A185-150D1156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83FC97-0406-44C0-819A-A3E8D02A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EF10E-0612-49F7-B967-305EA24A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FDD60-7CB9-4279-9DCD-F0DD7075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E67F-44D4-4E4E-874E-9C167072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A86CD-F7D0-48C0-A637-C1AC8111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3054E-6F38-486E-8686-66044D15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4E1B6-F9F0-44DB-B6C2-FDDE530D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78CA3-271C-44E0-9410-EE8B80AE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6951B-A192-437A-82D9-492AA41A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919E6-BB6C-4681-90FC-300D1D57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316DE-086E-41F5-96C8-B73F23F0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CF8A-0C01-4FDC-9A9E-45876C48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A3DE-67BC-4CB1-855D-0FF9AF69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F6D-94C4-4716-92A1-3F807CA9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EE05-CC48-4BE2-A1C3-C3FABC31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CC5-3481-4DD5-90F5-5582655E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171C-6382-4592-AA96-B0D5216F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97F8-C309-41E9-BF95-6E0607C47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1EC8-A9B4-4EF1-B9A7-A1D09B5867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5BDE-3338-4DC9-BD9F-09E30A6F8C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773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ضرب كثيرات الحدود – ثاني متوسط – ف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600" y="917640"/>
            <a:ext cx="874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100080"/>
            <a:ext cx="4103640" cy="792000"/>
          </a:xfrm>
          <a:custGeom>
            <a:avLst/>
            <a:gdLst>
              <a:gd name="textAreaLeft" fmla="*/ 93240 w 4103640"/>
              <a:gd name="textAreaRight" fmla="*/ 4010400 w 41036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18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8276" y="21600"/>
                </a:lnTo>
                <a:arcTo wR="3600" hR="3600" stAng="10800000" swAng="5400000"/>
                <a:lnTo>
                  <a:pt x="1118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1047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ضرب كثيرات ال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6400" y="84312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لاً : ضرب وحيدات ال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680" y="1576440"/>
            <a:ext cx="8748720" cy="213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40" y="4361040"/>
            <a:ext cx="8748720" cy="249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5760" y="3692520"/>
            <a:ext cx="87692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24000" y="1700280"/>
            <a:ext cx="906480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د ضرب وحيدات الحد نضرب المعاملات م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الرموز معاً ولا ننسى أنه في حالة ضر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رموز المتشابهة نجمع الأس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36766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50760" y="361332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14800" y="4508640"/>
            <a:ext cx="37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س ×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1720" y="51688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-ذ ا@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× 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28880" y="45021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95360" y="45291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× س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7680" y="4570560"/>
            <a:ext cx="16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94036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8080" y="5940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280" y="599292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6720" y="2533680"/>
            <a:ext cx="8496360" cy="221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1400"/>
            <a:ext cx="8496360" cy="245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22480" y="25527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20952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ب × -ا ب@ × ذا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3360" y="836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92440" y="86832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7360" y="890640"/>
            <a:ext cx="31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× ب@× ب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14954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8644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688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32130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$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82760" y="32544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×  ا × ا#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3800" y="3943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9880" y="393372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040" y="4743360"/>
            <a:ext cx="849636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869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ج × -ذا@ب@ × ذج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805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-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580536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72320" y="58388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9800" y="580536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3840" y="4724280"/>
            <a:ext cx="867564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200" y="2154240"/>
            <a:ext cx="8675640" cy="14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81612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1400"/>
            <a:ext cx="4680000" cy="765000"/>
          </a:xfrm>
          <a:custGeom>
            <a:avLst/>
            <a:gdLst>
              <a:gd name="textAreaLeft" fmla="*/ 90000 w 4680000"/>
              <a:gd name="textAreaRight" fmla="*/ 4590000 w 4680000"/>
              <a:gd name="textAreaTop" fmla="*/ 90000 h 765000"/>
              <a:gd name="textAreaBottom" fmla="*/ 675000 h 765000"/>
            </a:gdLst>
            <a:ahLst/>
            <a:rect l="textAreaLeft" t="textAreaTop" r="textAreaRight" b="textAreaBottom"/>
            <a:pathLst>
              <a:path w="1320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8489" y="21600"/>
                </a:lnTo>
                <a:arcTo wR="3600" hR="3600" stAng="10800000" swAng="5400000"/>
                <a:lnTo>
                  <a:pt x="13208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55d0e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6320" y="745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82960" y="8161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أكمل مباشرة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13372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الضرب في أبسط صو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6280" y="148428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7858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1200" y="143352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ذ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× - ذب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46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61920" y="7952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س#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54673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ب × ب@ × ب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3583080"/>
            <a:ext cx="1871640" cy="1141200"/>
          </a:xfrm>
          <a:prstGeom prst="downArrowCallout">
            <a:avLst>
              <a:gd name="adj1" fmla="val 41005"/>
              <a:gd name="adj2" fmla="val 41002"/>
              <a:gd name="adj3" fmla="val 16667"/>
              <a:gd name="adj4" fmla="val 6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583080"/>
            <a:ext cx="150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3000" y="544500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ا@ × ا}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5424480"/>
            <a:ext cx="344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{ 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×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0" y="480708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86440" y="60339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43560" y="6137280"/>
            <a:ext cx="5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9800" y="6095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46240" y="281160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062000"/>
            <a:ext cx="9144000" cy="20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15920"/>
            <a:ext cx="6408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8160" y="1364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ضرب وحيدة حد في كثيرة 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14560"/>
            <a:ext cx="874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عند ضرب وحيدة حد في كثيرة حدود نستخ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خاصية توزيع الضرب على الجمع كما سي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440" y="314172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31608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0760" y="307656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3890880"/>
            <a:ext cx="56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32320" y="467352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661000"/>
            <a:ext cx="2087280" cy="1197000"/>
          </a:xfrm>
          <a:prstGeom prst="downArrowCallout">
            <a:avLst>
              <a:gd name="adj1" fmla="val 43598"/>
              <a:gd name="adj2" fmla="val 4359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0720" y="573408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55d0ed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2440" y="-2700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54936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404640"/>
            <a:ext cx="1008000" cy="28764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16480" y="404640"/>
            <a:ext cx="2232000" cy="29700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0"/>
            <a:ext cx="3457440" cy="692280"/>
          </a:xfrm>
          <a:custGeom>
            <a:avLst/>
            <a:gdLst/>
            <a:ahLst/>
            <a:rect l="l" t="t" r="r" b="b"/>
            <a:pathLst>
              <a:path w="2207" h="370">
                <a:moveTo>
                  <a:pt x="2207" y="345"/>
                </a:moveTo>
                <a:cubicBezTo>
                  <a:pt x="2122" y="294"/>
                  <a:pt x="1894" y="102"/>
                  <a:pt x="1698" y="51"/>
                </a:cubicBezTo>
                <a:cubicBezTo>
                  <a:pt x="1502" y="0"/>
                  <a:pt x="1238" y="24"/>
                  <a:pt x="1028" y="37"/>
                </a:cubicBezTo>
                <a:cubicBezTo>
                  <a:pt x="818" y="50"/>
                  <a:pt x="610" y="76"/>
                  <a:pt x="439" y="131"/>
                </a:cubicBezTo>
                <a:cubicBezTo>
                  <a:pt x="268" y="186"/>
                  <a:pt x="91" y="320"/>
                  <a:pt x="0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1197000"/>
            <a:ext cx="33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{ذ س@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}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43320" y="120636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ذ س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7080" y="1238400"/>
            <a:ext cx="263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18032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7440" y="180324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773360"/>
            <a:ext cx="172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7080" y="2492280"/>
            <a:ext cx="895500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290520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93080" y="2739960"/>
            <a:ext cx="792000" cy="21600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2678040"/>
            <a:ext cx="1872000" cy="36036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3640" y="3573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{ا@ × ا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32160" y="357192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{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9800" y="2519280"/>
            <a:ext cx="2808360" cy="478080"/>
          </a:xfrm>
          <a:custGeom>
            <a:avLst/>
            <a:gdLst/>
            <a:ahLst/>
            <a:rect l="l" t="t" r="r" b="b"/>
            <a:pathLst>
              <a:path w="1769" h="301">
                <a:moveTo>
                  <a:pt x="1769" y="301"/>
                </a:moveTo>
                <a:cubicBezTo>
                  <a:pt x="1722" y="259"/>
                  <a:pt x="1604" y="94"/>
                  <a:pt x="1485" y="47"/>
                </a:cubicBezTo>
                <a:cubicBezTo>
                  <a:pt x="1366" y="0"/>
                  <a:pt x="1201" y="16"/>
                  <a:pt x="1056" y="20"/>
                </a:cubicBezTo>
                <a:cubicBezTo>
                  <a:pt x="911" y="24"/>
                  <a:pt x="746" y="47"/>
                  <a:pt x="614" y="74"/>
                </a:cubicBezTo>
                <a:cubicBezTo>
                  <a:pt x="482" y="101"/>
                  <a:pt x="368" y="143"/>
                  <a:pt x="266" y="181"/>
                </a:cubicBezTo>
                <a:cubicBezTo>
                  <a:pt x="164" y="219"/>
                  <a:pt x="55" y="276"/>
                  <a:pt x="0" y="3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361332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{ 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96360" y="425124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68720" y="4221000"/>
            <a:ext cx="18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38520" y="425124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5157720"/>
            <a:ext cx="7777440" cy="1700280"/>
          </a:xfrm>
          <a:prstGeom prst="flowChartMultidocument">
            <a:avLst/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8000" y="53229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880" y="59277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إلى اللقاء محمد ا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39:12Z</dcterms:created>
  <dc:creator>user</dc:creator>
  <dc:description/>
  <dc:language>en-US</dc:language>
  <cp:lastModifiedBy>Windows XP</cp:lastModifiedBy>
  <dcterms:modified xsi:type="dcterms:W3CDTF">2007-06-16T21:52:51Z</dcterms:modified>
  <cp:revision>7</cp:revision>
  <dc:subject/>
  <dc:title>الشريحة 1</dc:title>
</cp:coreProperties>
</file>