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801B-DC26-4C10-945A-00031D60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C613-094C-49BA-A56E-23082D85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FADF3-A390-429A-9E5B-A6AEB363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F1C47-7BD7-41B0-8C77-9E3CF3E7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8E87E-5F37-45A4-A92B-3437D017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774B3-2E6A-4F15-8FD3-498BD95D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F3713-C171-433A-AC61-DC287691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40027-68D1-4337-AC5F-9F98B6AF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BAB79-2ACB-436C-8EBF-559DEB0D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B2716-3C9F-48C0-9FA5-6204AACE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7FB46-E6DC-42A3-A5AE-025B4A2C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A6493-917A-455A-8F28-9AAD4285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F41A-01B1-430E-8BEC-7B17D227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EA18B-3272-4F7A-A91D-4B88CF5A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9FAB8-CF5E-4A2F-916A-77BB83F1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A563D-73BA-4580-A11A-A5E73861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A6103-848F-4CDC-888A-A13D1E7B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85AA4-FA22-4831-87C1-C33FA596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9BCCA-673B-4F85-8CEE-9663C6C3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4B1A0-8D30-440A-90B9-AAC79BF5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4ED86-E420-4EEA-B268-A4910832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F91B9-F8C3-4EA5-A885-40F1E7D9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A69B5-F82C-4ABC-AFBF-E4311C2BE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43B9-A72C-4945-BAAE-B6B40B13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27414-09AF-4563-823A-1A6E12F4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02829-69B2-4465-9A48-50E301CD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92073-8252-42B7-A4B9-7EEFCF70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8A917-0136-46FC-AE54-97784CEC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73536-705E-4D83-86FC-2E14C45E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65A87-6E22-4B4D-B664-D2520FD3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4EC6A-713D-49BC-A3E6-BE27AE65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90C95-B680-4AF0-83E2-EB94CD1E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3921-1CB2-449C-B341-132B7C97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48C4A-9EF6-4E69-B802-30720A63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C51AD-E143-49F0-8205-47401D2B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322B5-8832-49F1-900E-5FA59AAA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A9115-F39E-4E1B-988E-99EC4F17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39ECF-D88F-4832-B13B-21989CA0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92194-203B-4810-A467-447B56CF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B713F-800D-4CEA-A54A-FA434B5C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0825D-048E-438C-BFC1-A833A259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857A1-16BB-4665-BE06-6A88921C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9D334-B447-4D0D-8501-69072EF1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07D6-2998-42D0-915F-C59497CF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97F18-95D7-4177-92A9-924B93E7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DDB82-4EEB-4964-B558-37A67B7C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4B2DA-A4F8-47FC-8CFA-C4476043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B95B2-D6BE-4DA8-B30C-B578F108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296B3-2F09-4077-B807-80CC5BB0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B9EC4-02E6-412F-9900-F010CB65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8D514-E790-410F-9DD7-082C3BBE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371E3-6DA0-4276-8CBA-48CC9756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09E36-0F94-4EBE-BCF3-D4F65481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822B1-0D20-4F50-849A-9C188B42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30A1-EC9C-4AF6-B943-5ED93EEA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37B88-5C4F-457C-9D8E-3EFE2A5A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BE724-9E85-46DD-8584-887664BD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56F12-C313-4CDC-9A1C-58997340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F58BD-CE07-434D-B554-3D033E18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5B4AA-88D1-4962-91E2-7FA4DCD3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AFD29-B8B4-469D-8B7B-BCB0DB1F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B3206-A808-43DA-A398-38A64D1B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B9D50-4E44-44F2-A4C3-2C943B59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C4568-1B7A-4465-9D21-27BA49A7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62944-0E03-441E-BE88-A1E79FD9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9A6A-0C87-4AEE-A5FE-20344694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8A68F-9EA5-412B-9B30-F19C9D58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0F092-A9FF-4BE5-A149-34DFE6B4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93A1F-A53E-4900-942F-3D9FF054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C8ADA-A52D-42F5-AB03-E258679F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F3CF0-E2E2-4AB5-B9C3-BF1B181C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254C0-0625-47D1-9232-DD08CB10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CC13C-D7CB-4F8D-BCED-A4B2CE70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77D0A-B0E1-4826-B096-38CC42C5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321D6-B538-46B1-B0B5-25335F80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B47D6-4236-4EDA-B20B-CDD653CC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FD7D-E2A8-4BBF-893C-0B484831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80402-19FA-482D-A294-01468A80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4AF85-AD35-412A-BA73-DE5DF302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F9321-8455-4631-96D6-7194E308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07307-E38F-43DE-95F9-2074272A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4657D-B499-4BD0-8D08-09D835A6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E2CE6-3D0F-4CF1-9FD3-07BC00B7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54AE3-DB7F-4203-9E4A-D5BD3400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9E6A8-3BD0-4CF1-9892-96E7354A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313B3-09B1-4757-AA78-DA756995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9195F-A5EA-4AD4-840F-ED91B026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193D-1481-4827-85AD-048A92D5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F4B2C-C4E3-4C9B-84C0-AEFC608B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BF1E3-243F-4D18-B17A-AA27EF80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14976-5960-4567-AB4E-716BEADE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7692B-F772-460D-89EE-13FD2E5A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4A1F9-BCB0-47AE-9B13-EADEB025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92E03-0BA9-4731-96E7-A7655580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99F7F-2940-4564-B888-5D1AF171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0C025-AF8E-467E-AC22-F5D84428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55635-9826-4DAD-9BF7-A18836AF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26DE0-0D51-4D74-B03C-9C9F64C5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D8E7-864C-444F-91A2-7BD64E24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902A6-A3B7-403F-8617-2903C1AB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B17BA-911E-4637-AA30-54720D2F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6CF21-8BAB-404F-8B70-7BA022C3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9B4CF-1AC6-4571-9BA5-02EDD16F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2C0C0-F479-46CA-A5D7-E919F418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8788C-E170-476A-B070-AA020F5E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C7002-E7C8-4611-A981-558D6E65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8B954-E8F9-4430-8570-5116A953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1B17C-595B-495B-B168-4A83CB5E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F2355-A4DB-4E6E-BD3A-B77DF997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0FF6-7BE3-460F-A4BB-3A00A2A9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71EBC-5A91-468F-9121-BD5469F8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B907C-CD18-4BD7-A354-BBC5CA05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02569-75E1-4505-80E2-67AD52D3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3ECE1-A7B9-4092-9E6D-36FB3399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8AD07-DB08-4ACA-86DF-5939DA5C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992F4-1D22-44E6-839B-82E1141A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2B508-0D15-44B6-9903-A76EE2E1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05A2B-BD2E-47C1-9A87-2E44BAA7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46C65-F373-424B-A8A1-C7C640ED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23BA5-C1BC-4F35-BEAC-7C18A8E6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397F-D5A5-401F-9E92-9995598CC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8108-349E-4B5D-9B7B-067028EEC8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89D7-41FC-4533-B527-ADC6A592A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21AD-76D9-412D-8798-DDDE78DA69E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9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7DE8-9E71-4423-97CE-50D1A85D2BC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C063-F1BD-4338-882B-3AED4A848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6C41-9AB5-4009-BFD0-DC8B76BEB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5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5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53DC-B2C2-4207-954E-A48177EABB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6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6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3C93-A0DD-4688-9604-4A46303540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8D10-B416-46A3-A704-CDE2BC56B9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كثيرات الحدود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136440" y="2724120"/>
            <a:ext cx="8893440" cy="413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77920" y="271440"/>
            <a:ext cx="8675640" cy="23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788000" y="5013360"/>
            <a:ext cx="381636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716360" y="184464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116000" y="404640"/>
            <a:ext cx="7488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درجة كثيرة الحدود :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- س @ + 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ه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خامس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ب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رابع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د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-274680" y="285264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إذا رتبنا كثيرة الحدود : س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تنازليا ً تصب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# - س@ 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 - س# + س 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- س# - س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د~ س# + س@ +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971640" y="4508640"/>
            <a:ext cx="3095640" cy="2349360"/>
          </a:xfrm>
          <a:prstGeom prst="flowChartMultidocumen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0de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4888080"/>
            <a:ext cx="287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وإلى اللقا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9640" y="5661000"/>
            <a:ext cx="28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محمد السي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5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56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57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1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72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73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539640" y="2276640"/>
            <a:ext cx="8353440" cy="45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640" y="1197000"/>
            <a:ext cx="8353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076720" y="5084640"/>
            <a:ext cx="1871640" cy="865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987640" y="3141720"/>
            <a:ext cx="2160720" cy="1079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219800" y="1341360"/>
            <a:ext cx="1619280" cy="720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71640" y="42840"/>
            <a:ext cx="446436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b7f6a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40000" y="-14400"/>
            <a:ext cx="43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463416"/>
                </a:solidFill>
                <a:latin typeface="Arial"/>
              </a:rPr>
              <a:t>كثيرات الحدو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439560" y="1268280"/>
            <a:ext cx="9396360" cy="89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تمهيد :  اختر الإجابة الصحيحة فيما يأت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حيدة الحد فيما يلي ه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#؛    ب~ ذ س+ص    ج~ ذ س ص     د~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رجة وحيدة الحد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النسبة للمتغير 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ول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ب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ثاني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ج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ثالثة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د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رابع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اتج جمع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+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361280" y="3535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71640" y="31971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l-KsorZulfiMath"/>
              </a:rPr>
              <a:t>ذ 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1258920" y="3716280"/>
            <a:ext cx="79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71640" y="3573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152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153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441360" y="4371840"/>
            <a:ext cx="8569440" cy="24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38120" y="2674800"/>
            <a:ext cx="8569440" cy="16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6280" y="184320"/>
            <a:ext cx="8569440" cy="24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419640" y="1341360"/>
            <a:ext cx="280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732800" y="4149720"/>
            <a:ext cx="1258920" cy="71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588080" y="2708280"/>
            <a:ext cx="1403640" cy="649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276720" y="1916280"/>
            <a:ext cx="1944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64000" y="260280"/>
            <a:ext cx="194472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68360" y="270000"/>
            <a:ext cx="86756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 @       ج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 $        د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6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ب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ناتج طرح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 –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ا~  ذ ا ب    ب~ -ذ ا@ب@    ج~ - ذ ا ب     د~  ذ ا@ب@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-160200" y="263700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تعريف : كثيرة الحدود هي عبارة رياضية ناتجة عن جم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حيدتي حد أو أكثر غير متشابهتي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أمثلة :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ص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~ ذ ا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 س# - س@  +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68360" y="42926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ar-SA" sz="3600" spc="-1" strike="noStrike">
                <a:solidFill>
                  <a:srgbClr val="ff3300"/>
                </a:solidFill>
                <a:latin typeface="Verdana"/>
              </a:rPr>
              <a:t>وتسمى ثنائية ح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5084640"/>
            <a:ext cx="52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       وتسمى ثلاثي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24000" y="59500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       وتسمى رباعية حدود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340000" y="12682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كثيرات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6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82480" y="4348080"/>
            <a:ext cx="8353440" cy="250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9960" y="1927080"/>
            <a:ext cx="8353440" cy="23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39640" y="100080"/>
            <a:ext cx="8353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910640" y="4394160"/>
            <a:ext cx="104292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492360" y="944640"/>
            <a:ext cx="3311640" cy="936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476360" y="189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كل منها يسمى كثير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506680" y="103176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تبسيط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90440" y="202104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تكون كثيرة الحدود غير مبسطة إذا وجد فيها على الأق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حدين متشابهين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مثل :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 -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تبسيطها يكون بجمع حدودها المتشابه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مثال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=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@ +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=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+ ذ ب – ذ ا + ب -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54450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ذ 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11280" y="6308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ا +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ب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71640" y="1484280"/>
            <a:ext cx="7921440" cy="403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71640" y="260280"/>
            <a:ext cx="79214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364000" y="271440"/>
            <a:ext cx="3456000" cy="720720"/>
          </a:xfrm>
          <a:custGeom>
            <a:avLst/>
            <a:gdLst>
              <a:gd name="textAreaLeft" fmla="*/ 0 w 3456000"/>
              <a:gd name="textAreaRight" fmla="*/ 3456360 w 3456000"/>
              <a:gd name="textAreaTop" fmla="*/ 93240 h 720720"/>
              <a:gd name="textAreaBottom" fmla="*/ 6274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84160" y="260280"/>
            <a:ext cx="79930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0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حدد أيا ً من كثيرات الحدود التالية مبسطة وأيا ً منها غير مبسطة ، وبسط غير المبسط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ص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ص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ب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ج~ -ذ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د~ %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@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16286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= - ذ س +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9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4360" y="2205000"/>
            <a:ext cx="41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  مبسطة لأن حدودها مختلق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39640" y="2997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26920" y="3684600"/>
            <a:ext cx="4681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 %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- $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!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70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77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6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77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81160" y="3789360"/>
            <a:ext cx="8634240" cy="27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4920" y="2333520"/>
            <a:ext cx="863424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8040" y="1031760"/>
            <a:ext cx="8634600" cy="12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956720" y="2421000"/>
            <a:ext cx="93636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771640" y="127080"/>
            <a:ext cx="4032360" cy="863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14480" y="14616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درجة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19240" y="1146240"/>
            <a:ext cx="88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درجة كثيرة الحدود بالنسبة لمتغير فيها تساوي أكبر أس  لهذا المتغير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84360" y="25322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أمثلة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#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564000" y="2997360"/>
            <a:ext cx="50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بالنسبة للمتغير س من الدرج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93880" y="31035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03640" y="386064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س ص% + ذ س@ - س# ص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-92160" y="3860640"/>
            <a:ext cx="450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093080" y="4653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411280" y="465300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465300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الخام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835280" y="5661000"/>
            <a:ext cx="64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ين س ،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5640" y="5661000"/>
            <a:ext cx="165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77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770" fill="hold"/>
                                        <p:tgtEl>
                                          <p:spTgt spid="7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403200" y="3789360"/>
            <a:ext cx="8604360" cy="29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812000" y="5516640"/>
            <a:ext cx="104292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44600" y="146160"/>
            <a:ext cx="8604000" cy="36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40360" y="3933720"/>
            <a:ext cx="2879640" cy="6476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11280" y="907920"/>
            <a:ext cx="792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332000" y="836640"/>
            <a:ext cx="1152360" cy="649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627280" y="836640"/>
            <a:ext cx="1440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140360" y="836640"/>
            <a:ext cx="136836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932360" y="260280"/>
            <a:ext cx="374328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3280" y="26028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تدريب (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 صفحة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0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1280" y="907920"/>
            <a:ext cx="8208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عين درجة كثيرة الحدود: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$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#ص@ 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ين س ،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4360" y="170028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رابع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340000" y="2492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187280" y="314172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السابع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724360" y="386064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ترتيب كثيرة الحدو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68360" y="4724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ترتب كثيرة الحدود حسب أس المتغيرات المكونة لحدود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41440" y="5589720"/>
            <a:ext cx="806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مثال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 س$ + س# -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11280" y="6021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مرتبة ترتيبا ً تنازليا ً لأن اس المغير س متناقص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6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77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770" fill="hold"/>
                                        <p:tgtEl>
                                          <p:spTgt spid="7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1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77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8" dur="770" fill="hold"/>
                                        <p:tgtEl>
                                          <p:spTgt spid="7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0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2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77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770" fill="hold"/>
                                        <p:tgtEl>
                                          <p:spTgt spid="7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1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3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77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7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9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1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45960" y="2496960"/>
            <a:ext cx="8642520" cy="141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38160"/>
            <a:ext cx="8642160" cy="141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995640" y="3933720"/>
            <a:ext cx="1297080" cy="647640"/>
          </a:xfrm>
          <a:prstGeom prst="ellipse">
            <a:avLst/>
          </a:prstGeom>
          <a:solidFill>
            <a:srgbClr val="00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059280" y="1484280"/>
            <a:ext cx="360036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11280" y="260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وكثيرة الحدود :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 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-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9640" y="83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مرتبة تصاعديا ً حسب أس المتغير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11280" y="2565360"/>
            <a:ext cx="853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بسط كثيرة الحدود التالية ثم رتبها تصاعديا ً ، وما درجتها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–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-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+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-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+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-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843280" y="162864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438360" y="3933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ال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343640" y="444492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تبسيط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7200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( -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+ذ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04000" y="4941720"/>
            <a:ext cx="27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+ ذ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(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 – 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484360" y="494172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(-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588000" y="5516640"/>
            <a:ext cx="179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716360" y="5516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140360" y="5589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hi-IN" sz="3200" spc="-1" strike="noStrike">
                <a:solidFill>
                  <a:srgbClr val="0000ff"/>
                </a:solidFill>
                <a:latin typeface="Verdana"/>
                <a:cs typeface="Al-KsorZulfiMath"/>
              </a:rPr>
              <a:t>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00360" y="551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987640" y="6278400"/>
            <a:ext cx="61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f6a8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ترتيب تصاعديا ً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+ س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4000" y="622620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درجة :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9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77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7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9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2962440"/>
            <a:ext cx="9144000" cy="158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80880" y="692280"/>
            <a:ext cx="8748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1341360"/>
            <a:ext cx="9144000" cy="158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492360" y="6021360"/>
            <a:ext cx="237492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003640" y="3716280"/>
            <a:ext cx="244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64360" y="2060640"/>
            <a:ext cx="1728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076720" y="0"/>
            <a:ext cx="3816360" cy="6922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932360" y="0"/>
            <a:ext cx="38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تمارين (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6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943280" y="765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ختر الإجابة الصحيحة لكل مما يأت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00000" y="141300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ثنائية حدين من الدرجة الأولى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ب~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د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11280" y="3141720"/>
            <a:ext cx="8532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عبارة رياضية تدعى ثلاثية حدود هي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#+ ص      ب~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- س +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ج~   !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ب ج       د~   ؛؛؛؛؛؛؛؛؛؛؛؛؛؛؛؛؛؛؛؛؛؛؛؛؛؛؛؛؛؛؛؛؛؛؛؛؛؛؛؛؛؛؛؛؛؛؛؛؛؛؛؛؛؛؛؛؛؛؛؛؛؛؛؛؛؛؛؛؛؛؛؛؛؛؛؛؛؛؛؛؛؛؛؛؛؛؛؛؛؛؛؛؛؛؛؛؛؛؛؛؛؛؛؛؛؛؛؛؛؛؛؛؛؛؛؛؛؛؛؛؛؛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16000" y="357336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547640" y="39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258920" y="4581360"/>
            <a:ext cx="7885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كثيرة حدود في أبسط صورة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ص@ + ص – ص           ب~ !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+ ا#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+ س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    د~ ا@ + ا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7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9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9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6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4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2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1:14:50Z</dcterms:created>
  <dc:creator>user</dc:creator>
  <dc:description/>
  <dc:language>en-US</dc:language>
  <cp:lastModifiedBy>Windows XP</cp:lastModifiedBy>
  <dcterms:modified xsi:type="dcterms:W3CDTF">2007-06-16T21:53:23Z</dcterms:modified>
  <cp:revision>11</cp:revision>
  <dc:subject/>
  <dc:title>الشريحة 1</dc:title>
</cp:coreProperties>
</file>