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C913-95A5-423D-86F9-7ADE90031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BD78-D5A2-4114-9B94-63A201016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A76D-5236-4F79-BA07-46699E049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83AE-6C1E-44A7-B444-CCD290F3C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E9CFAE-9019-48F0-9F05-9B27ECDF2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2D0274-D3CC-4BA8-A784-C2301C9B2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4AF834-5917-4AC1-BE20-3E8028463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14B755-E9B3-4F83-B854-2A0F7CCEF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7C43BD-FAEA-46F5-B144-5BA5278B0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09B24F-B99B-42CC-ADE0-6FB806F8D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FB5FE7-F6A8-46F3-BE44-4B5BD8D86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6722-5EE1-4775-A264-89869D07D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99C803-4C3C-436C-B1F9-43CA1C9D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72F180-C40B-4006-B63E-7B89FD4A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651E49-A22F-46CF-B666-33B6ACEE1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0CEA88-274A-4C26-9468-5ED6FEE94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50683B-FB3E-48B9-9F93-9C45DE9F9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E90C2-F628-4E3D-AD19-5128F1117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196D3-FC21-45B6-B312-4F0C6E289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EF0E1-07BC-480B-B48C-169D541F1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55B78-3910-46E1-9978-023FC04A5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1BC83-F148-47C2-914E-2C2A8633C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3113-9ADB-4AB1-ABB2-89C31F944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6E26C-DC97-4AE6-978F-F06D71A49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1B7AB-3297-4028-A6EE-17793A659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06A4C-CD1A-48FD-8C61-2DD93548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845A9-0A18-43AF-91EB-2B76308F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9CCC8-0F02-410D-A941-BDAF590FB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D9AAF-BC60-4E56-B7DF-B75F5613F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E310A-5E8B-43F1-8DAC-4BCC9E357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1D763-C480-488B-8B7A-FABD17E8E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414AC-7FBC-468E-AB72-FB6723B06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A19B5-7567-49F1-8675-62D49CB63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7E66-9502-46E4-A32F-74D164000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8D704-0671-427B-B696-18C0E3D6C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374B8-1D04-48BA-930D-1A53ACFAB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F26DF-E41E-47F6-9D3F-32BCEBCFA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EF278-8311-4B8F-A33C-C458DC0DC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7F99D-9872-40DF-A440-31D90D4F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9C0E0-0F04-43B0-8FA0-0BD2B904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D84A8-644D-43C9-B084-23FAE72BB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D75DF-96BA-4CBC-8DC4-A0AD1D429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3607D-F847-4329-B416-5D82E784D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590F3F-3957-4CBF-9AC1-528313CFB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C429-4AAE-4F71-A47C-B61FCEB64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B325C5-9364-44E7-AF0B-6B5084CB9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5C3E10-0CA6-4F4C-87B2-D9C76CD26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E6074-A02F-4236-8C8B-34A07F1D4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08E10-00DB-4494-8487-CDC87A4EF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CBA671-1647-4D22-BD1B-0D9FF9CDD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CC7CD-81EB-43D4-A977-91F6CA24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47E02-FAD3-4B31-A72A-B85E47B1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69E4B-1568-491A-B0E0-3CA7DDE5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67FF6C-55AE-4A10-84DE-6CA4D12FB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E533DB-DBBE-4986-81A6-BE2259A38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C298-9956-4C95-9071-01108F0DC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B6EDB-66AF-4130-886C-73103E79C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2853D5-A90E-4F36-AAA0-E5A2C678E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F8A6A5-53C0-466C-8636-D77237EC5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37A4E9-8634-43F4-A751-669061B82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48F059-59E5-4C43-8432-7040DC4E3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9625A5-E783-4659-9BED-0F776C5DA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630762-F84D-4D08-ABFB-BB42A2208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299266-796C-441F-9957-8F56C25FA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28FC96-3B4B-4DF7-8859-24608D76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5A8156-29D0-4922-B8A8-5B3D38C5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E093-4F68-4180-A99A-ADE8B3FF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41FF48-32A7-4C92-8652-2A28EAF01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B38F70-783D-4E22-A98A-D19A9E2BA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DEDA5C-3F9B-41F7-AC41-E68D6CC43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82EE53-43D2-4A6B-8473-69CE6A3E8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F6748F-01F8-4D3F-9C8B-6136F5964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8021BD-4501-488B-8544-61F868C73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D4A72C-D8FC-42BD-9E41-3A8F9CA9F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AEF3A7-F28F-4AFD-883E-74E8159A3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F6F572-C960-4939-8275-1B1C2CEF6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58566A-7E4C-4DF4-879B-106B04F0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A0D5-E18E-4804-AD5A-17C3F877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AA9579-19E8-4A69-9634-15B3B3013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7A3AEC-5C60-426A-9751-47B57FF0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B36F60-ADE5-451E-AE06-31E151333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8A305B-A634-4380-9958-AAFF11F7C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341347-E47B-4BB4-8EEA-271E784E1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BEA99E-C94F-4D63-AF7D-412F07265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EC7410-5FD0-48F1-AE91-1AA0CE375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D7F5D2-DAB1-4FD7-A171-5C54A0AC9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7A9D37-119E-45D7-9C84-5DB03918B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A8EE3A-2C6C-465D-80B9-DB3F55545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9678-DC4A-4093-9251-FC4B2B46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EEA147-BCDA-4A50-A6DD-5877785F0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857911-AAA0-473B-8AAB-0FFF22C5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9F51CB-A8F5-4A98-BF70-261418E8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2FE4F8-85FD-49F1-9A9A-1EC2C59C7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5AB88C-18B7-41A7-A1A8-DF1A79DD4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4FAE25-FD04-48EB-9282-C4B4DE5AD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4A2CD6-E9CD-4C9B-BC32-CBB90E48C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0F2EF-CCF3-4811-9383-DEB4F4A4C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4B0EA-2B04-4CE8-B61C-78DD69E56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23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25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0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9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dt" idx="7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ftr" idx="8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sldNum" idx="9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76BCF-C08A-4731-B112-909D3E93D3E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229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231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56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5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dt" idx="10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ftr" idx="11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22089-C357-4779-9142-BFBD903EF44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334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A740C-5080-431C-A768-702BF76955A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2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383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BDBCC-6C99-4131-84CB-1D938760006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43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44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088E7-527E-4794-8476-5CFEC5658A9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51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52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F9233-1104-4A97-BE77-BA796EAA009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1979640" y="496800"/>
            <a:ext cx="5545080" cy="792360"/>
          </a:xfrm>
          <a:custGeom>
            <a:avLst/>
            <a:gdLst>
              <a:gd name="textAreaLeft" fmla="*/ 93240 w 5545080"/>
              <a:gd name="textAreaRight" fmla="*/ 5451840 w 5545080"/>
              <a:gd name="textAreaTop" fmla="*/ 93240 h 792360"/>
              <a:gd name="textAreaBottom" fmla="*/ 699120 h 792360"/>
            </a:gdLst>
            <a:ahLst/>
            <a:rect l="textAreaLeft" t="textAreaTop" r="textAreaRight" b="textAreaBottom"/>
            <a:pathLst>
              <a:path w="15110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47502" y="21600"/>
                </a:lnTo>
                <a:arcTo wR="3600" hR="3600" stAng="10800000" swAng="5400000"/>
                <a:lnTo>
                  <a:pt x="151102" y="3600"/>
                </a:lnTo>
                <a:arcTo wR="3600" hR="3600" stAng="5400000" swAng="5400000"/>
                <a:close/>
              </a:path>
            </a:pathLst>
          </a:custGeom>
          <a:solidFill>
            <a:srgbClr val="ffff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39640" y="476280"/>
            <a:ext cx="66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 دروس في الرياضيات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116000" y="1700280"/>
            <a:ext cx="7559640" cy="4176720"/>
          </a:xfrm>
          <a:prstGeom prst="flowChartMultidocumen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547640" y="1773360"/>
            <a:ext cx="698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 مقياس الرسم – ثاني متوسط – ف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2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187280" y="2565360"/>
            <a:ext cx="6985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كتابة وتنسيق / محمد عبدالله السيد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cs typeface="Traditional Arabic"/>
              </a:rPr>
              <a:t>مدرسة ابن عثيمين المتوسطة بمحافظة الزلف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8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/ 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9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هـ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227160" y="5129280"/>
            <a:ext cx="874872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50920" y="3141720"/>
            <a:ext cx="874872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71440" y="981000"/>
            <a:ext cx="874872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076640" y="4476600"/>
            <a:ext cx="1656000" cy="720720"/>
          </a:xfrm>
          <a:prstGeom prst="ellipse">
            <a:avLst/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rot="782400">
            <a:off x="7188120" y="2134800"/>
            <a:ext cx="2303640" cy="136692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184560" y="38160"/>
            <a:ext cx="3363840" cy="90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700360" y="0"/>
            <a:ext cx="338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Imprint MT Shadow"/>
                <a:cs typeface="mohammad bold art 1"/>
              </a:rPr>
              <a:t>مقياس الر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716360" y="1413000"/>
            <a:ext cx="417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مقياس الرسم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1618920" y="1762200"/>
            <a:ext cx="35290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79280" y="1012680"/>
            <a:ext cx="510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طول في الر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826920" y="1844640"/>
            <a:ext cx="4476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طول الحقيق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7451640" y="2349360"/>
            <a:ext cx="14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mohammad bold art 1"/>
              </a:rPr>
              <a:t>أمثل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49360" y="3151080"/>
            <a:ext cx="8285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mohammad bold art 1"/>
              </a:rPr>
              <a:t>ا- رسمت منارة بمقياس رسم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 :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30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فكان ارتفاعها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6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mohammad bold art 1"/>
              </a:rPr>
              <a:t>سم أوجد الارتفاع الحقيقي للمنار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6727680" y="44496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995640" y="4427640"/>
            <a:ext cx="151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ح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788000" y="5456160"/>
            <a:ext cx="403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مقياس الرسم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flipH="1">
            <a:off x="847800" y="5837400"/>
            <a:ext cx="417672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703440" y="5846760"/>
            <a:ext cx="3974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طول الحقيق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116000" y="5138640"/>
            <a:ext cx="370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طول في الر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4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4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4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4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7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0" y="3618000"/>
            <a:ext cx="9144000" cy="32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0" y="44280"/>
            <a:ext cx="9144000" cy="324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067280" y="6021360"/>
            <a:ext cx="1439640" cy="692280"/>
          </a:xfrm>
          <a:prstGeom prst="rect">
            <a:avLst/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7121520" y="3367080"/>
            <a:ext cx="1692360" cy="647640"/>
          </a:xfrm>
          <a:prstGeom prst="ellipse">
            <a:avLst/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013520" y="577800"/>
            <a:ext cx="165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792840" y="20520"/>
            <a:ext cx="136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mohammad bold art 1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7308360" y="620640"/>
            <a:ext cx="115092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372360" y="27144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2626920" y="620640"/>
            <a:ext cx="381636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2556000" y="527040"/>
            <a:ext cx="374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  <a:ea typeface="mohammad bold art 1"/>
              </a:rPr>
              <a:t> الطول الحقيق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603600" y="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464000" y="1700280"/>
            <a:ext cx="468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ff0066"/>
                </a:solidFill>
                <a:latin typeface="Arial"/>
                <a:cs typeface="mohammad bold art 1"/>
              </a:rPr>
              <a:t>الطول الحقيقي 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3051000" y="1722600"/>
            <a:ext cx="245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6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8200" y="1720800"/>
            <a:ext cx="3059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80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498600" y="2421000"/>
            <a:ext cx="292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18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متر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6156360" y="3284640"/>
            <a:ext cx="25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مثال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30040" y="3902040"/>
            <a:ext cx="8893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قيست المسافة بين مدينتين على خارطة فكانت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سم وكانت المسافة الحقيقية بينهما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50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كم اوجد مقياس رسم الخارط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203640" y="5950080"/>
            <a:ext cx="23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ح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4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4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0" y="4930920"/>
            <a:ext cx="9144000" cy="192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0" y="3233880"/>
            <a:ext cx="9144000" cy="165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1400" y="1546200"/>
            <a:ext cx="9144000" cy="1657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0" y="20520"/>
            <a:ext cx="9144000" cy="148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7823160" y="4756320"/>
            <a:ext cx="1258920" cy="7920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4788000" y="289080"/>
            <a:ext cx="403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مقياس الرسم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 flipH="1">
            <a:off x="468000" y="671400"/>
            <a:ext cx="460836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403280" y="-69840"/>
            <a:ext cx="352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طول على الر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476360" y="588960"/>
            <a:ext cx="316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طول الحقيق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10280" y="1527120"/>
            <a:ext cx="1677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435640" y="2133720"/>
            <a:ext cx="1730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50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ك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7236000" y="1844640"/>
            <a:ext cx="86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5292720" y="2224080"/>
            <a:ext cx="194472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497480" y="189396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 flipH="1">
            <a:off x="361440" y="2224080"/>
            <a:ext cx="414036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979640" y="148428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-57240" y="2119320"/>
            <a:ext cx="48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50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100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2076480" y="1450800"/>
            <a:ext cx="1008000" cy="648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258920" y="141300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276720" y="256536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H="1">
            <a:off x="3417480" y="2109960"/>
            <a:ext cx="863640" cy="792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012000" y="3573360"/>
            <a:ext cx="86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1897200" y="4005360"/>
            <a:ext cx="352872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2916360" y="3213000"/>
            <a:ext cx="107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857160" y="3878280"/>
            <a:ext cx="40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100000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7453440" y="4765680"/>
            <a:ext cx="1690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Bernard MT Condensed"/>
              </a:rPr>
              <a:t> مثال</a:t>
            </a:r>
            <a:r>
              <a:rPr b="1" lang="en-US" sz="4400" spc="-1" strike="noStrike">
                <a:solidFill>
                  <a:srgbClr val="ff0066"/>
                </a:solidFill>
                <a:latin typeface="Bernard MT Condensed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-272880" y="4699080"/>
            <a:ext cx="8208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Bernard MT Condensed"/>
              </a:rPr>
              <a:t>مقياس رسم خارطة هو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: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300000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فإذا كانت المسافة الحقيقية بين موقعين على الخارطة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6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كم فكم تكون المسافة بينهما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7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4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4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20520" y="4365720"/>
            <a:ext cx="9144000" cy="2492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6360" y="2997360"/>
            <a:ext cx="914400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1400" y="1557360"/>
            <a:ext cx="914400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1400" y="20520"/>
            <a:ext cx="9144000" cy="98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11640" y="743040"/>
            <a:ext cx="1800360" cy="792000"/>
          </a:xfrm>
          <a:prstGeom prst="rect">
            <a:avLst/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042920" y="127080"/>
            <a:ext cx="748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على الخارطة 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068720" y="733320"/>
            <a:ext cx="16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ح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932360" y="1700280"/>
            <a:ext cx="388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مقياس الرسم 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1042920" y="2141640"/>
            <a:ext cx="4548240" cy="126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39640" y="1413000"/>
            <a:ext cx="45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Bernard MT Condensed"/>
              </a:rPr>
              <a:t> الطول على الخارط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11280" y="2009880"/>
            <a:ext cx="4249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طول الحقيق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5651640" y="3645000"/>
            <a:ext cx="34192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6948360" y="2852640"/>
            <a:ext cx="7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924440" y="3559320"/>
            <a:ext cx="37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300000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356000" y="3284640"/>
            <a:ext cx="10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 flipV="1">
            <a:off x="0" y="2241000"/>
            <a:ext cx="464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Bernard MT Condensed"/>
              </a:rPr>
              <a:t> الطول على الخارط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560520" y="3643200"/>
            <a:ext cx="403200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0" y="3673440"/>
            <a:ext cx="4908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6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  <a:ea typeface="Al-KsorZulfiMath"/>
              </a:rPr>
              <a:t>×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0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  <a:ea typeface="Al-KsorZulfiMath"/>
              </a:rPr>
              <a:t>×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726080" y="4756320"/>
            <a:ext cx="450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Bernard MT Condensed"/>
              </a:rPr>
              <a:t> الطول على الخارطة 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0" y="5156280"/>
            <a:ext cx="48592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0" y="4568760"/>
            <a:ext cx="511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600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 × 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1000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 ×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100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×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84360" y="5135400"/>
            <a:ext cx="32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300000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3924360" y="6064200"/>
            <a:ext cx="27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=  </a:t>
            </a:r>
            <a:r>
              <a:rPr b="1" lang="hi-IN" sz="4400" spc="-1" strike="noStrike">
                <a:solidFill>
                  <a:srgbClr val="000000"/>
                </a:solidFill>
                <a:latin typeface="Bernard MT Condensed"/>
                <a:cs typeface="Al-KsorZulfiMath"/>
              </a:rPr>
              <a:t>ذ </a:t>
            </a:r>
            <a:r>
              <a:rPr b="1" lang="hi-IN" sz="4400" spc="-1" strike="noStrike">
                <a:solidFill>
                  <a:srgbClr val="000000"/>
                </a:solidFill>
                <a:latin typeface="Bernard MT Condensed"/>
              </a:rPr>
              <a:t>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8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4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4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2" dur="2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7" dur="2000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2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6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9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1" dur="2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8" dur="2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3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5" dur="2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419040" y="5549760"/>
            <a:ext cx="8642520" cy="108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433440" y="4425840"/>
            <a:ext cx="8642160" cy="108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53960" y="3213000"/>
            <a:ext cx="8642520" cy="1193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395280" y="620640"/>
            <a:ext cx="8642520" cy="216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3851280" y="2811600"/>
            <a:ext cx="1368360" cy="647640"/>
          </a:xfrm>
          <a:prstGeom prst="ellipse">
            <a:avLst/>
          </a:prstGeom>
          <a:solidFill>
            <a:srgbClr val="ff5050"/>
          </a:solidFill>
          <a:ln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708360" y="41400"/>
            <a:ext cx="4978440" cy="765000"/>
          </a:xfrm>
          <a:prstGeom prst="rect">
            <a:avLst/>
          </a:prstGeom>
          <a:solidFill>
            <a:srgbClr val="00ffcc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2843280" y="95400"/>
            <a:ext cx="604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حل تدريب (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7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) صفحة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Bernard MT Condensed"/>
                <a:cs typeface="Al-KsorZulfiMath"/>
              </a:rPr>
              <a:t>ذ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  <a:ea typeface="Arabic Transparent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684360" y="466560"/>
            <a:ext cx="8137440" cy="3640680"/>
            <a:chOff x="684360" y="466560"/>
            <a:chExt cx="8137440" cy="3640680"/>
          </a:xfrm>
        </p:grpSpPr>
        <p:sp>
          <p:nvSpPr>
            <p:cNvPr id="689" name=""/>
            <p:cNvSpPr/>
            <p:nvPr/>
          </p:nvSpPr>
          <p:spPr>
            <a:xfrm>
              <a:off x="684360" y="661680"/>
              <a:ext cx="8137440" cy="34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Bernard MT Condensed"/>
                </a:rPr>
                <a:t> مقياس رسم خارطة هو             ما هو بعد موقعين على هذه الخارطة إذا كانت المسافة الحقيقية بينهما هي </a:t>
              </a:r>
              <a:r>
                <a:rPr b="1" lang="en-US" sz="4400" spc="-1" strike="noStrike">
                  <a:solidFill>
                    <a:srgbClr val="000000"/>
                  </a:solidFill>
                  <a:latin typeface="Bernard MT Condensed"/>
                </a:rPr>
                <a:t>1000</a:t>
              </a:r>
              <a:r>
                <a:rPr b="1" lang="en-US" sz="4400" spc="-1" strike="noStrike">
                  <a:solidFill>
                    <a:srgbClr val="000000"/>
                  </a:solidFill>
                  <a:latin typeface="Bernard MT Condensed"/>
                </a:rPr>
                <a:t> متر ؟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627280" y="1114200"/>
              <a:ext cx="194472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967120" y="466560"/>
              <a:ext cx="936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66"/>
                  </a:solidFill>
                  <a:latin typeface="Bernard MT Condensed"/>
                </a:rPr>
                <a:t> </a:t>
              </a:r>
              <a:r>
                <a:rPr b="1" lang="en-US" sz="4400" spc="-1" strike="noStrike">
                  <a:solidFill>
                    <a:srgbClr val="ff0066"/>
                  </a:solidFill>
                  <a:latin typeface="Bernard MT Condensed"/>
                </a:rPr>
                <a:t>1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989000" y="938160"/>
              <a:ext cx="2521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0066"/>
                  </a:solidFill>
                  <a:latin typeface="Bernard MT Condensed"/>
                </a:rPr>
                <a:t>50000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3" name=""/>
          <p:cNvSpPr/>
          <p:nvPr/>
        </p:nvSpPr>
        <p:spPr>
          <a:xfrm>
            <a:off x="3851280" y="2708280"/>
            <a:ext cx="1368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ح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4500720" y="3500280"/>
            <a:ext cx="464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Bernard MT Condensed"/>
              </a:rPr>
              <a:t>مقياس رسم الخارطة 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755280" y="3890880"/>
            <a:ext cx="37450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47680" y="3203640"/>
            <a:ext cx="4319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طول على الخارط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1074600" y="3798720"/>
            <a:ext cx="3033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طول الحقيق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5435640" y="5075280"/>
            <a:ext cx="302400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6227640" y="4427640"/>
            <a:ext cx="10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5796000" y="4951440"/>
            <a:ext cx="227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500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4376880" y="4653000"/>
            <a:ext cx="93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flipH="1">
            <a:off x="477720" y="5043600"/>
            <a:ext cx="417672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539640" y="4303800"/>
            <a:ext cx="4027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طول على الخارط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62080" y="4919760"/>
            <a:ext cx="406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0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×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464000" y="5713560"/>
            <a:ext cx="468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طول على الخارطة 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 flipH="1">
            <a:off x="639720" y="6081840"/>
            <a:ext cx="40672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971640" y="603396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500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95280" y="5425920"/>
            <a:ext cx="447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0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× 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×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2" dur="2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4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4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6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1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6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1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6" dur="200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1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2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5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8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7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0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468360" y="620640"/>
            <a:ext cx="82803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5867280" y="69228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ernard MT Condensed"/>
              </a:rPr>
              <a:t> = </a:t>
            </a:r>
            <a:r>
              <a:rPr b="1" lang="hi-IN" sz="4000" spc="-1" strike="noStrike">
                <a:solidFill>
                  <a:srgbClr val="000000"/>
                </a:solidFill>
                <a:latin typeface="Bernard MT Condensed"/>
                <a:cs typeface="Al-KsorZulfiMath"/>
              </a:rPr>
              <a:t>ذ </a:t>
            </a:r>
            <a:r>
              <a:rPr b="1" lang="hi-IN" sz="4000" spc="-1" strike="noStrike">
                <a:solidFill>
                  <a:srgbClr val="000000"/>
                </a:solidFill>
                <a:latin typeface="Bernard MT Condensed"/>
                <a:cs typeface="Arabic Transparent"/>
              </a:rPr>
              <a:t>س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2050920" y="2060640"/>
            <a:ext cx="5545440" cy="4797360"/>
          </a:xfrm>
          <a:prstGeom prst="flowChartMultidocument">
            <a:avLst/>
          </a:prstGeom>
          <a:gradFill rotWithShape="0">
            <a:gsLst>
              <a:gs pos="0">
                <a:srgbClr val="99ff33"/>
              </a:gs>
              <a:gs pos="50000">
                <a:srgbClr val="ffffff"/>
              </a:gs>
              <a:gs pos="100000">
                <a:srgbClr val="99ff33"/>
              </a:gs>
            </a:gsLst>
            <a:lin ang="5400000"/>
          </a:gra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3124080" y="3500280"/>
            <a:ext cx="38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Bernard MT Condensed"/>
              </a:rPr>
              <a:t> و إلى اللقاء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380960" y="4869000"/>
            <a:ext cx="38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000000"/>
                </a:solidFill>
                <a:latin typeface="Bernard MT Condensed"/>
              </a:rPr>
              <a:t>محمد السيد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7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0" dur="2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5" dur="2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0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7T06:37:45Z</dcterms:created>
  <dc:creator>جهاز الطالب</dc:creator>
  <dc:description/>
  <dc:language>en-US</dc:language>
  <cp:lastModifiedBy>Windows XP</cp:lastModifiedBy>
  <dcterms:modified xsi:type="dcterms:W3CDTF">2007-06-16T21:55:26Z</dcterms:modified>
  <cp:revision>7</cp:revision>
  <dc:subject/>
  <dc:title>الشريحة 1</dc:title>
</cp:coreProperties>
</file>