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BD69-C2B8-4653-BFFC-FED96B98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F90-3E6E-4180-8CA5-28C2006F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2A0-8E74-40EE-BCE7-BB0713A3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1F4-B5AE-43C0-95AB-D1E28CD4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B99B-CF66-4C0E-9089-B5A45708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5658-14D0-46EB-8A28-1E6784D5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F441-B3FB-4790-BC21-74231EB5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1F5D-1B2A-4FF2-B843-B4A8B4EF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4F88-BE55-4DC9-9A77-D81F49EF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027F-F833-4F4B-84DE-A52636B1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E832-96DE-45E5-B321-389E0BCE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2C1-FEA7-4C5E-92E7-25560BAD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285A-8AC7-42CF-97B4-915CB460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3CD2-B75C-4B90-94B5-0F52B353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F101-60B5-4372-B5AB-844D3138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C193-9A55-4E28-A045-1F28C086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CAC5-6A30-4112-888E-9A1EA7C8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183CC-D3B9-4B43-B43A-AEDF8924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B3ABD-E507-4BF5-803B-F333EA05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73D4A-C169-4DB5-B951-4E7A25E6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745D6-0DD1-42FB-83AB-EC3BBE4D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D74FD-0248-4EBE-815E-28DC82B5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275E-2A6B-42C2-8801-78AEF4D7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822A0-3FCA-49FC-B856-DDA88619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F8458-29B1-43E2-8DAA-829A6C31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26B3B-ED2F-4FE2-A8A9-454C0E2C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C3A3B-4EFF-4B68-B986-1888693C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5CE6B-F374-4C48-B51B-0132D4C2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24CBA-9F62-4CE9-89D8-6E0EE256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4BB02-B40A-4CB3-B7FB-6950B9D9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388-9D48-492A-9894-4CA874A6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5B60-162D-490A-A9FB-D4B2D619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A48-C568-4FB7-9E61-26B91D4B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2A14-9B94-4FD5-AB9C-09F64962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DA5-14B7-4F12-BB94-473AC8F1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332-B9A1-45E7-A682-931868E0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00D4-37AA-4802-94B9-CD45351D9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3F6C-F1EF-4983-91A4-2C2E71FD2E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6045-BBCD-466D-B7FA-60BC3ED941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توازي الأضلاع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654520" y="14461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736800"/>
            <a:ext cx="881064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3027240"/>
            <a:ext cx="410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2840" y="1260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91120" y="554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80172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27000"/>
            <a:ext cx="828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92428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02280" y="1511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22050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080" y="233208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توازى وتساوى ضلعان متقابلان ف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2997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53960" y="2975040"/>
            <a:ext cx="40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82440" y="3654360"/>
            <a:ext cx="5249880" cy="2649240"/>
            <a:chOff x="-82440" y="3654360"/>
            <a:chExt cx="5249880" cy="2649240"/>
          </a:xfrm>
        </p:grpSpPr>
        <p:sp>
          <p:nvSpPr>
            <p:cNvPr id="358" name=""/>
            <p:cNvSpPr/>
            <p:nvPr/>
          </p:nvSpPr>
          <p:spPr>
            <a:xfrm flipH="1">
              <a:off x="1547280" y="41497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44120" y="58561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30760" y="414972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64640" y="413856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55640" y="414972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32200" y="3968640"/>
              <a:ext cx="341280" cy="363600"/>
              <a:chOff x="2932200" y="3968640"/>
              <a:chExt cx="341280" cy="363600"/>
            </a:xfrm>
          </p:grpSpPr>
          <p:sp>
            <p:nvSpPr>
              <p:cNvPr id="364" name=""/>
              <p:cNvSpPr/>
              <p:nvPr/>
            </p:nvSpPr>
            <p:spPr>
              <a:xfrm>
                <a:off x="2932200" y="396864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79800" y="39733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222640" y="5665680"/>
              <a:ext cx="342720" cy="363600"/>
              <a:chOff x="2222640" y="5665680"/>
              <a:chExt cx="342720" cy="363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371680" y="56656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22640" y="567072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5080" y="39639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000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9080" y="3654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82440" y="5516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240" y="50846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1560" y="43862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519440" y="3778200"/>
            <a:ext cx="4500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6164280"/>
            <a:ext cx="1150920" cy="549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4960" y="60832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2924280"/>
            <a:ext cx="88930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0"/>
            <a:ext cx="88930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396720" y="-41400"/>
            <a:ext cx="5249880" cy="2649240"/>
            <a:chOff x="-396720" y="-41400"/>
            <a:chExt cx="5249880" cy="2649240"/>
          </a:xfrm>
        </p:grpSpPr>
        <p:sp>
          <p:nvSpPr>
            <p:cNvPr id="381" name=""/>
            <p:cNvSpPr/>
            <p:nvPr/>
          </p:nvSpPr>
          <p:spPr>
            <a:xfrm flipH="1">
              <a:off x="1233000" y="4539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29840" y="21603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516480" y="45396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50360" y="44280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41360" y="45396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2617920" y="272880"/>
              <a:ext cx="341280" cy="363600"/>
              <a:chOff x="2617920" y="272880"/>
              <a:chExt cx="341280" cy="363600"/>
            </a:xfrm>
          </p:grpSpPr>
          <p:sp>
            <p:nvSpPr>
              <p:cNvPr id="387" name=""/>
              <p:cNvSpPr/>
              <p:nvPr/>
            </p:nvSpPr>
            <p:spPr>
              <a:xfrm>
                <a:off x="2617920" y="2728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65520" y="27756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08360" y="1969920"/>
              <a:ext cx="342720" cy="363600"/>
              <a:chOff x="1908360" y="1969920"/>
              <a:chExt cx="342720" cy="36360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7400" y="19699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8360" y="197496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060800" y="2682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5720" y="19652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00" y="-414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-396720" y="18208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9960" y="13888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7280" y="6904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22920" y="1778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ب ا ؟ ج  = د ج ؟ ا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l-KsorZulfiMath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37160" y="828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هما زاويتان متبادلت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6320" y="158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إ ا ب  ] د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99080" y="2238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، بم  ا د ] ب &lt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معط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7400" y="292428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440" y="370044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603680"/>
            <a:ext cx="8893080" cy="22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38680" y="461952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5445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266760" y="4452840"/>
            <a:ext cx="6267600" cy="2674080"/>
            <a:chOff x="-266760" y="4452840"/>
            <a:chExt cx="6267600" cy="2674080"/>
          </a:xfrm>
        </p:grpSpPr>
        <p:sp>
          <p:nvSpPr>
            <p:cNvPr id="408" name=""/>
            <p:cNvSpPr/>
            <p:nvPr/>
          </p:nvSpPr>
          <p:spPr>
            <a:xfrm>
              <a:off x="1619280" y="489744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4360" y="6453360"/>
              <a:ext cx="453528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8436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27672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869000"/>
              <a:ext cx="100800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352680" y="5978520"/>
              <a:ext cx="454320" cy="503280"/>
              <a:chOff x="3352680" y="5978520"/>
              <a:chExt cx="454320" cy="503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352680" y="6043680"/>
                <a:ext cx="454320" cy="4316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64000" y="5978520"/>
                <a:ext cx="239760" cy="503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710240" y="5999040"/>
              <a:ext cx="553680" cy="476280"/>
              <a:chOff x="4710240" y="5999040"/>
              <a:chExt cx="553680" cy="47628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710240" y="6060600"/>
                <a:ext cx="553680" cy="4082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714200" y="5999040"/>
                <a:ext cx="292320" cy="476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971640" y="5589720"/>
              <a:ext cx="28728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6720" y="6299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09880" y="469584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1480" y="63039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4697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26676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51280" y="461340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640" y="44528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8440" y="6362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812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72000" y="5538960"/>
              <a:ext cx="21600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90960" y="2187720"/>
            <a:ext cx="12254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8160" y="0"/>
            <a:ext cx="9144000" cy="22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00440" y="88920"/>
            <a:ext cx="45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-304920" y="-209520"/>
            <a:ext cx="6267600" cy="2673720"/>
            <a:chOff x="-304920" y="-209520"/>
            <a:chExt cx="6267600" cy="2673720"/>
          </a:xfrm>
        </p:grpSpPr>
        <p:sp>
          <p:nvSpPr>
            <p:cNvPr id="434" name=""/>
            <p:cNvSpPr/>
            <p:nvPr/>
          </p:nvSpPr>
          <p:spPr>
            <a:xfrm>
              <a:off x="1581120" y="23472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200" y="1790280"/>
              <a:ext cx="453528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620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23856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3480" y="206280"/>
              <a:ext cx="1008000" cy="1584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314520" y="1315800"/>
              <a:ext cx="454320" cy="502920"/>
              <a:chOff x="3314520" y="1315800"/>
              <a:chExt cx="454320" cy="50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3314520" y="1380600"/>
                <a:ext cx="454320" cy="4312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25840" y="1315800"/>
                <a:ext cx="239760" cy="502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672080" y="1336320"/>
              <a:ext cx="553680" cy="475920"/>
              <a:chOff x="4672080" y="1336320"/>
              <a:chExt cx="553680" cy="475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672080" y="1397880"/>
                <a:ext cx="553680" cy="4078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76040" y="1336320"/>
                <a:ext cx="292320" cy="475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33480" y="927000"/>
              <a:ext cx="28728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68560" y="1636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1720" y="3312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73320" y="164124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8800" y="34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30492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3120" y="-4896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480" y="-20952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0280" y="169992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996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33840" y="876240"/>
              <a:ext cx="21600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689280" y="22464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80" y="3006720"/>
            <a:ext cx="9144000" cy="38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42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ه ؟  = ا ب ؟ 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342900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49720"/>
            <a:ext cx="381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11804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59320" y="479736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ك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7400" y="551664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0440" y="618480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692280"/>
            <a:ext cx="7993080" cy="5400720"/>
          </a:xfrm>
          <a:prstGeom prst="flowChartMultidocumen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18446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وإلى اللق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57336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rial"/>
              </a:rPr>
              <a:t>محمد الس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456000"/>
            <a:ext cx="806436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519200"/>
            <a:ext cx="820764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836640"/>
            <a:ext cx="2340000" cy="863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0"/>
            <a:ext cx="360036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38440" y="223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66ff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13720" y="863640"/>
            <a:ext cx="19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عريف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55736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متوازي الأضلاع هو شكل رباعي فيه 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ضلعان متقابلان متوازيان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1400" y="395604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55480" y="561168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62120" y="3956040"/>
            <a:ext cx="1295640" cy="165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5440" y="3933720"/>
            <a:ext cx="1295280" cy="165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7800" y="36687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6880" y="55404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7760" y="561168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0880" y="325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19640" y="3782880"/>
            <a:ext cx="1276920" cy="1998720"/>
            <a:chOff x="3419640" y="3782880"/>
            <a:chExt cx="1276920" cy="1998720"/>
          </a:xfrm>
        </p:grpSpPr>
        <p:grpSp>
          <p:nvGrpSpPr>
            <p:cNvPr id="183" name=""/>
            <p:cNvGrpSpPr/>
            <p:nvPr/>
          </p:nvGrpSpPr>
          <p:grpSpPr>
            <a:xfrm>
              <a:off x="4356000" y="3782880"/>
              <a:ext cx="340560" cy="363600"/>
              <a:chOff x="4356000" y="3782880"/>
              <a:chExt cx="340560" cy="363600"/>
            </a:xfrm>
          </p:grpSpPr>
          <p:sp>
            <p:nvSpPr>
              <p:cNvPr id="184" name=""/>
              <p:cNvSpPr/>
              <p:nvPr/>
            </p:nvSpPr>
            <p:spPr>
              <a:xfrm>
                <a:off x="4356000" y="378288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240" y="378756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19640" y="5418000"/>
              <a:ext cx="342720" cy="363600"/>
              <a:chOff x="3419640" y="5418000"/>
              <a:chExt cx="342720" cy="3636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8680" y="541800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9640" y="542304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824840" y="4567680"/>
            <a:ext cx="4336560" cy="403560"/>
            <a:chOff x="1824840" y="4567680"/>
            <a:chExt cx="4336560" cy="403560"/>
          </a:xfrm>
        </p:grpSpPr>
        <p:sp>
          <p:nvSpPr>
            <p:cNvPr id="190" name=""/>
            <p:cNvSpPr/>
            <p:nvPr/>
          </p:nvSpPr>
          <p:spPr>
            <a:xfrm rot="1119000">
              <a:off x="185220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9000">
              <a:off x="562896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591804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66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480" y="4417920"/>
            <a:ext cx="8893080" cy="24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2708280"/>
            <a:ext cx="8893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907920"/>
            <a:ext cx="8893440" cy="17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24200" y="66600"/>
            <a:ext cx="4681440" cy="6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8200" y="0"/>
            <a:ext cx="49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خواص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640" y="1052640"/>
            <a:ext cx="627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3760" y="2924280"/>
            <a:ext cx="67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قابلتان متساويت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1840" y="45673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9280" y="1217520"/>
            <a:ext cx="2300040" cy="1130400"/>
            <a:chOff x="179280" y="1217520"/>
            <a:chExt cx="2300040" cy="1130400"/>
          </a:xfrm>
        </p:grpSpPr>
        <p:sp>
          <p:nvSpPr>
            <p:cNvPr id="202" name=""/>
            <p:cNvSpPr/>
            <p:nvPr/>
          </p:nvSpPr>
          <p:spPr>
            <a:xfrm>
              <a:off x="606240" y="12175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9280" y="23479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0080" y="1201680"/>
            <a:ext cx="2282400" cy="1152360"/>
            <a:chOff x="190080" y="1201680"/>
            <a:chExt cx="2282400" cy="1152360"/>
          </a:xfrm>
        </p:grpSpPr>
        <p:sp>
          <p:nvSpPr>
            <p:cNvPr id="205" name=""/>
            <p:cNvSpPr/>
            <p:nvPr/>
          </p:nvSpPr>
          <p:spPr>
            <a:xfrm flipH="1">
              <a:off x="203940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08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76360" y="29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8460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" y="3033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0640" y="388944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222200">
            <a:off x="632520" y="306792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5157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1680" y="5157720"/>
            <a:ext cx="2592360" cy="1224000"/>
            <a:chOff x="301680" y="5157720"/>
            <a:chExt cx="2592360" cy="1224000"/>
          </a:xfrm>
        </p:grpSpPr>
        <p:sp>
          <p:nvSpPr>
            <p:cNvPr id="214" name=""/>
            <p:cNvSpPr/>
            <p:nvPr/>
          </p:nvSpPr>
          <p:spPr>
            <a:xfrm>
              <a:off x="949320" y="5180040"/>
              <a:ext cx="1297080" cy="115092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1680" y="5157720"/>
              <a:ext cx="2592360" cy="12240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60640" y="58737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869000"/>
            <a:ext cx="9144000" cy="19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4040" y="4060800"/>
            <a:ext cx="865080" cy="865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80" y="814320"/>
            <a:ext cx="9144000" cy="340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-133200"/>
            <a:ext cx="2556000" cy="1197000"/>
          </a:xfrm>
          <a:prstGeom prst="irregularSeal1">
            <a:avLst/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4000" y="11124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مث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0" y="9129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ي الشكل المقاب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وازي أضلا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ه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ا ؟ 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%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حسب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ب ؟   ،  ج ؟  ،  د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836640"/>
            <a:ext cx="5067360" cy="3005640"/>
            <a:chOff x="0" y="836640"/>
            <a:chExt cx="5067360" cy="3005640"/>
          </a:xfrm>
        </p:grpSpPr>
        <p:sp>
          <p:nvSpPr>
            <p:cNvPr id="224" name=""/>
            <p:cNvSpPr/>
            <p:nvPr/>
          </p:nvSpPr>
          <p:spPr>
            <a:xfrm>
              <a:off x="25200" y="3078000"/>
              <a:ext cx="8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40" y="1484280"/>
              <a:ext cx="4105440" cy="1728720"/>
            </a:xfrm>
            <a:prstGeom prst="parallelogram">
              <a:avLst>
                <a:gd name="adj" fmla="val 59371"/>
              </a:avLst>
            </a:prstGeom>
            <a:solidFill>
              <a:srgbClr val="8def99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3360" y="119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400" y="30686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800" y="836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5640" y="1535040"/>
              <a:ext cx="151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120" y="1412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6478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160" y="2587680"/>
              <a:ext cx="12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492360" y="409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440" y="543888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880" y="6095880"/>
            <a:ext cx="73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63400" y="4552920"/>
            <a:ext cx="820908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7880" y="4156200"/>
            <a:ext cx="1079280" cy="792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960" y="12682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360" y="6397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-270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-4752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92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666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62532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6560" y="13161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125424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12207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040" y="1916280"/>
            <a:ext cx="8209080" cy="23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95880" y="1989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1920" y="1763640"/>
            <a:ext cx="5248080" cy="2550240"/>
            <a:chOff x="331920" y="1763640"/>
            <a:chExt cx="5248080" cy="2550240"/>
          </a:xfrm>
        </p:grpSpPr>
        <p:sp>
          <p:nvSpPr>
            <p:cNvPr id="252" name=""/>
            <p:cNvSpPr/>
            <p:nvPr/>
          </p:nvSpPr>
          <p:spPr>
            <a:xfrm>
              <a:off x="755640" y="2349360"/>
              <a:ext cx="4032360" cy="1295640"/>
            </a:xfrm>
            <a:prstGeom prst="parallelogram">
              <a:avLst>
                <a:gd name="adj" fmla="val 77806"/>
              </a:avLst>
            </a:prstGeom>
            <a:solidFill>
              <a:srgbClr val="ffff00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2880" y="176364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1680" y="17794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5280" y="3357720"/>
              <a:ext cx="8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5496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0200" y="1768320"/>
              <a:ext cx="201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2200" y="263700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284720" y="2708280"/>
            <a:ext cx="4537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أضلاع أحسب محيطه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1880" y="4092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200" y="543888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60958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4842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19810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3255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699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-64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58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أي مضلع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576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جموع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1239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692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577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فيه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860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جد قياس زواياه الأخر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65300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832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52560" y="523404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440" y="595476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9640" y="4919760"/>
            <a:ext cx="820908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13320" y="0"/>
            <a:ext cx="73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69228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79600"/>
            <a:ext cx="62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0400" y="13827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1403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3892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7360" y="134784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1040" y="20304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8120" y="209232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019240"/>
            <a:ext cx="18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98800" y="1998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2692440"/>
            <a:ext cx="820872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720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" y="32814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طول محيط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00" y="3860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،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احسب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653000"/>
            <a:ext cx="180000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92640" y="45766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2736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صف المحي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2840" y="593892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5360" y="52052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ول + الع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3280" y="59626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922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62064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960" y="6033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3636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2280" y="1335240"/>
            <a:ext cx="90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0494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01600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198900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0336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7417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2725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270828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269892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900000" y="3644640"/>
            <a:ext cx="7344000" cy="2879640"/>
          </a:xfrm>
          <a:prstGeom prst="upArrowCallout">
            <a:avLst>
              <a:gd name="adj1" fmla="val 63764"/>
              <a:gd name="adj2" fmla="val 63758"/>
              <a:gd name="adj3" fmla="val 16667"/>
              <a:gd name="adj4" fmla="val 66660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162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3683160"/>
            <a:ext cx="727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نتقل الآن إلى الحالات التي يك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ها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3560" y="57564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49417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3560" y="429264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08520" y="36115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2160" y="302436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237492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7320" y="1204920"/>
            <a:ext cx="8209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-19080"/>
            <a:ext cx="5977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146376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 الحالات الآ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19044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حالات التي يكون فيها الش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764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315612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716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81120" y="446400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0720" y="50450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7840" y="593244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7:01:31Z</dcterms:created>
  <dc:creator>sa</dc:creator>
  <dc:description/>
  <dc:language>en-US</dc:language>
  <cp:lastModifiedBy>Windows XP</cp:lastModifiedBy>
  <dcterms:modified xsi:type="dcterms:W3CDTF">2007-06-16T21:53:54Z</dcterms:modified>
  <cp:revision>11</cp:revision>
  <dc:subject/>
  <dc:title>الشريحة 1</dc:title>
</cp:coreProperties>
</file>