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EDA-CC7A-420A-BF97-7BD96426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7F1-2994-4ABC-AD3C-78505420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43C-3ED7-4AE5-94A4-015B129A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54F-7C8D-4271-B579-5A822766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9A68-7BD2-4387-B9AA-0AD6A403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2AC6-DE5C-4A30-8190-C8FC9AEC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601B-81D7-49EC-8114-E653827B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9106-D69B-4999-A339-3A97B92B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DBC8-CC35-47EC-82E7-188E7275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C878-96EC-49C6-854E-760A9C90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C519-82C0-4248-AD58-8CC85585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F4C-903D-4169-9203-EB67C485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75FA-6078-494E-8089-DFA49F4A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B49A-17CE-4FB6-A6BC-16F6A648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7497-4299-4E14-B563-5549C72A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D07C-D9A3-41E8-8F66-3F5B1EC3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BD30-E6BE-45F3-84B9-82A29C9E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C4B-A8B7-484E-A467-A119C285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ED4-5A7A-4282-9003-964CBED2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7B8-7C00-4C44-8B06-A2FA32BF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DC7-3BD1-419F-8D17-7FCCDCFE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7D2-914A-4633-971D-6D1FCF3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71D-7071-44B4-BF9B-0987FB86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B5D-6B64-44FB-9B0F-3D345F6E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2965-06EB-4682-B11D-7434EA1BFA1E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خميس 30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1DFD-43E9-494A-A633-3D95D5415D42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DACA-5C19-43A8-9B76-9D3F727A83BE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خميس 30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72A8-42BC-4442-ADB4-4DCF8C9A8402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FFA7-A5A6-4059-BAD0-A49DB9AD8D1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EECB53-F743-48BB-BF19-40F2D42F1E1B}" type="datetime3">
              <a:rPr lang="en-US"/>
              <a:t>July 30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7F9-73E7-46B5-ACEA-9D0188270F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8AF7D-4F49-4066-8737-EEF0F7C39054}" type="datetime3">
              <a:rPr lang="en-US"/>
              <a:t>July 30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D36-1D5F-42DB-9CF4-C4C04BF817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1901D-E684-4D30-9E6D-311C90EACE2C}" type="datetime3">
              <a:rPr lang="en-US"/>
              <a:t>July 30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E32-06ED-4971-AA07-2A2702D226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64C26-2C9E-489D-B0BF-2C5B5B302BD9}" type="datetime3">
              <a:rPr lang="en-US"/>
              <a:t>July 30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6E4-5D05-470B-BA23-66233E4313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2023F-166A-4039-BED9-1EABB00B54B1}" type="datetime3">
              <a:rPr lang="en-US"/>
              <a:t>July 30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18E-D304-4B02-9C2D-786F2AB066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2C3A6-B921-42E8-9F4E-17893EB500B2}" type="datetime3">
              <a:rPr lang="en-US"/>
              <a:t>July 30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47A-6FB5-4BD4-B3D5-52A56F5737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151C9-9F81-4420-BA37-ED4DEC3EAC21}" type="datetime3">
              <a:rPr lang="en-US"/>
              <a:t>July 30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6AC-4DBC-4675-B0FB-1D2C34A895A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CEDBD-106D-4920-8001-8FDC38C3B1C8}" type="datetime3">
              <a:rPr lang="en-US"/>
              <a:t>July 30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