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542-9816-4675-BBC2-D173E1FB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07D-DA47-4BA6-99B0-42F7204B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806-DB26-4E33-85F4-1DFDEC83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D0C-75E6-4136-B5F9-59691899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7183-213D-4520-9B57-425A86DC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A695-B4B1-43F7-9B54-32796463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DD05-ADDA-47F8-B8D5-E2137A4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AA2A-EC6C-41DE-B752-E3E7E57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23D5-D6FA-43CA-9B0B-93D8CB2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EB3B-476F-4AD1-9CFC-3C4E47C1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D812-4DDD-425B-9504-A0F37E5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0F2-9229-46BE-B4D8-6285700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F1FF-8D88-4C0B-811F-FB9E747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E5FA-6F13-4F10-BB1A-7C672BA0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40AD-7DA8-47F4-ABB7-F43F8B81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019E-B526-4FB5-90A6-2CA0FC1D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499E-1F80-4403-AFEA-92E8B317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F51-D76A-4A96-A3DA-C92B87FB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D78-56B1-4411-B27A-4681416B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2D8-6FAC-4B83-8A5B-6F8EDF1D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D93-B82F-493C-8D19-90B0A81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74E-CF89-4E47-AAEC-FA376C69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F7D-E66C-400B-AAB8-80BB125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F6E-7AD0-499B-9AEE-76D45E2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EA5-F4FD-4E6E-81E1-48DDFE3C5E53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45D-8354-4095-9C7B-EA533A35B522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695-3D27-4A45-B021-C00623630DE1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DC4-C621-44FF-BFCA-D277AED3229C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E8BF-1E6A-48F0-B568-CE2238E5AF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A058C72-BAF8-41EE-B84D-A5F29A174A1C}" type="datetime3">
              <a:rPr lang="en-US"/>
              <a:t>July 30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888-B326-4515-9A6D-EA22B19A08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AA011-3D10-4458-A5B2-885D3A9631F0}" type="datetime3">
              <a:rPr lang="en-US"/>
              <a:t>July 30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60A-3711-4CCE-A7AF-B5C10CEBB7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7AB83-239B-4860-A548-8E26AFD42DB4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14F-80F6-4142-B936-28D1A67B75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99C55-31BC-4D42-A0B7-0E9435F71682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140-7BE9-4D95-866E-20EE7FE921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B8F9D-B58B-4F3A-B142-175EC191FDA8}" type="datetime3">
              <a:rPr lang="en-US"/>
              <a:t>July 30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B57-4382-48D0-8393-B257846B68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0D8B9-228E-427D-A2B8-A9719181EB8B}" type="datetime3">
              <a:rPr lang="en-US"/>
              <a:t>July 30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AA3-3392-499B-8C02-4278A292E7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BCE5C-36E1-467B-B218-855FD8597B68}" type="datetime3">
              <a:rPr lang="en-US"/>
              <a:t>July 30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C3C-7823-4F41-AA1F-B7F5B17BF9C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4C6F0-256E-44FA-A50C-7CF9FB42C9BD}" type="datetime3">
              <a:rPr lang="en-US"/>
              <a:t>July 30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